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D0F9-59B4-4E55-818A-0CB5F885D3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FF95-A5E9-4A77-83C4-40A91D559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fenselink.mil/news/newsarticle.aspx?id=502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atures.csmonitor.com/innovation/2008/06/19/built-for-battle-but-perfect-in-peacetim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E4D-18DA-4F28-930A-FB0C7BDE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8A3-FA19-4E66-94C6-C2C87C72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38B-6231-486C-9EE9-632B7D44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0D1-692B-4DFA-8178-F511F81A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5FBA-5291-45EF-BC07-60A6C8A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B3C-1367-40BD-BDCD-12FF35B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713-F558-47A4-885F-45362FB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7E04-C08C-4C4A-9528-282E3B4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47B4-7584-4546-834A-F23AB1E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ABAD-AC77-417C-A618-2874D76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5B70-8A61-421F-BA86-922FB3C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1FF-F4B1-4015-93DF-29AA2E08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0CC-FB56-4A11-8785-89F689BD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77A0-D8C5-417D-9E6C-F9A6250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02C-58FE-4A6E-9FE2-DD67C66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C45-E5E3-48A4-BB2E-2356E61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9AAA-230B-44D9-872D-D53E0931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10A74-E08E-4BA7-B6EF-821E734F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7A093-CBA7-4BE4-A07A-4A4D8A24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84CD5-7291-439D-BC69-F0D4D91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B2C97-7851-458C-9D57-602D8B61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01210-EE9A-4A5C-8D6E-9B4BC28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3E9-A6E3-4665-A142-A82EE4B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C4C29-B8D5-4DC5-B1AD-C9C53429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D625C-057A-4056-9C7D-0709F79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FFB8-22E8-468C-A9EC-2372CFA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1396D-CC51-4B01-827A-1211E5A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52EDC-848F-4F78-AD23-38CF1BC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14BE3-3477-490C-A47A-114AD422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458DD-B806-4F32-8D4C-84987537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94C32-5D35-4F5D-9B63-15A3CF91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FBABB-045D-4C6C-B628-7528309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9D16F-5337-48FC-8E69-0A001A3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ED7-BF2E-4969-A694-BE996919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00B6A-F65D-40D3-B403-909F4F75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463EE-14D6-4BD0-8F0A-7C3DFB26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6B28D-68BB-4CFD-A034-02E9D1D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088CF-28ED-4E8D-833A-613A80E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3C400-5954-4F48-99EB-6F88F2B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34F87-019D-4CA3-9B98-FCB425A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BB46C-8AA9-43A5-B12B-6C9037FF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A91CE-C619-4513-B350-0DFAB913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53124-9CF0-4826-9A2F-9798729F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CE810-13F7-466D-B507-4AEB9FB7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651-0FF5-4029-AA74-725476E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9ADB2-405C-4688-A016-E5B3D45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28149-45B9-42EE-AFC9-C733D9A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3D0CF-D5CB-4D42-BF3C-DB7592F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FB368-A141-4DF8-9C30-F0C1299C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A6A1B-2889-45BF-85AF-4780473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848DB-5429-4085-8C05-C7C5030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0E9AA-7EE4-43CE-A5F5-A933C6E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8ADE3-B9E3-4D1E-9EED-CF00A8B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69B8B-BAC1-429D-ABB3-ED7583D5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577B5-5034-4A8F-8DD1-FCD59DA9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DEA-831F-4F1A-A19F-7A398AC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2DEA2-99C2-4E39-BDCB-C9ADB5A2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092-5C27-4CCB-B8BE-CC657E0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240-390D-4D62-B2E9-0797F9E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BF8-ABBC-4EC0-A115-3BF2754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F1B-013E-4137-98FD-ED95B0ADDCE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05264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09692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09692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w Cen MT"/>
              </a:rPr>
              <a:t>Triag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0886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9FED-2AD8-4FD4-A758-D82FB521A5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431-F11B-4A43-87C7-6795E03418D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A35-8365-4FC3-B570-DACCA79F1E8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FD68-BE0B-4948-983B-5218B9C8C1E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4C8-9C6B-4E5C-822C-EA1A4061920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02B-1D42-4332-8631-E756CA7E9D5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585-1E76-4772-91D4-18C3D58F5A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9A9-B4C8-4805-B02A-3B1EB37FDBD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A3C-B1DD-4182-8415-CA707D3BEBC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9720" y="1294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Futura Hv"/>
              </a:rPr>
              <a:t>TRIAGE SPACES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588840" y="5576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47952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ecky Halci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Kapil Raj Nai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randon Thomp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20" y="6308640"/>
            <a:ext cx="198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iage Spa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495360" y="3505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w Cen MT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le 1"/>
          <p:cNvSpPr/>
          <p:nvPr/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4935" t="13639" r="13638" b="6709"/>
          <a:stretch/>
        </p:blipFill>
        <p:spPr>
          <a:xfrm>
            <a:off x="2502000" y="1409760"/>
            <a:ext cx="4495680" cy="376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53080" y="3009960"/>
            <a:ext cx="2571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5560" y="3174840"/>
            <a:ext cx="3276000" cy="3352680"/>
            <a:chOff x="25560" y="3174840"/>
            <a:chExt cx="3276000" cy="335268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51520" y="3174840"/>
              <a:ext cx="275004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25560" y="3336840"/>
              <a:ext cx="2622960" cy="31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4572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83160" y="5334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lba Matter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5867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cript MT Bold"/>
              </a:rPr>
              <a:t>Unused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1676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omic Sans MS"/>
              </a:rPr>
              <a:t>Not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153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utura Hv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ace Efficie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"/>
          <p:cNvSpPr/>
          <p:nvPr/>
        </p:nvSpPr>
        <p:spPr>
          <a:xfrm>
            <a:off x="5112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7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200" y="1676520"/>
            <a:ext cx="35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04172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00" y="4902120"/>
            <a:ext cx="507960" cy="128268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4305240"/>
            <a:ext cx="6094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9360" y="2781360"/>
            <a:ext cx="609480" cy="1447920"/>
          </a:xfrm>
          <a:prstGeom prst="rect">
            <a:avLst/>
          </a:prstGeom>
          <a:solidFill>
            <a:srgbClr val="94b6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9120" y="1790640"/>
            <a:ext cx="53316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1200" y="6200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iting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208296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4320" y="15620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R Treatment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30520" y="3924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1200" y="6210360"/>
            <a:ext cx="274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292200" y="62100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860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1005840" y="5257800"/>
            <a:ext cx="457200" cy="142236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8200" y="3162240"/>
            <a:ext cx="508320" cy="198144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3000" y="5168880"/>
            <a:ext cx="5335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4960" y="283212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97000" y="5067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06360" y="1954080"/>
            <a:ext cx="3192480" cy="4359240"/>
          </a:xfrm>
          <a:custGeom>
            <a:avLst/>
            <a:gdLst/>
            <a:ahLst/>
            <a:rect l="l" t="t" r="r" b="b"/>
            <a:pathLst>
              <a:path w="2011" h="2746">
                <a:moveTo>
                  <a:pt x="1349" y="2683"/>
                </a:moveTo>
                <a:cubicBezTo>
                  <a:pt x="1316" y="2661"/>
                  <a:pt x="1322" y="2645"/>
                  <a:pt x="1302" y="2612"/>
                </a:cubicBezTo>
                <a:cubicBezTo>
                  <a:pt x="1280" y="2575"/>
                  <a:pt x="1264" y="2548"/>
                  <a:pt x="1231" y="2525"/>
                </a:cubicBezTo>
                <a:cubicBezTo>
                  <a:pt x="1201" y="2481"/>
                  <a:pt x="1200" y="2471"/>
                  <a:pt x="1152" y="2454"/>
                </a:cubicBezTo>
                <a:cubicBezTo>
                  <a:pt x="1123" y="2425"/>
                  <a:pt x="1086" y="2393"/>
                  <a:pt x="1049" y="2375"/>
                </a:cubicBezTo>
                <a:cubicBezTo>
                  <a:pt x="981" y="2341"/>
                  <a:pt x="1079" y="2402"/>
                  <a:pt x="994" y="2351"/>
                </a:cubicBezTo>
                <a:cubicBezTo>
                  <a:pt x="953" y="2327"/>
                  <a:pt x="935" y="2307"/>
                  <a:pt x="891" y="2296"/>
                </a:cubicBezTo>
                <a:cubicBezTo>
                  <a:pt x="853" y="2256"/>
                  <a:pt x="878" y="2276"/>
                  <a:pt x="805" y="2249"/>
                </a:cubicBezTo>
                <a:cubicBezTo>
                  <a:pt x="796" y="2246"/>
                  <a:pt x="790" y="2237"/>
                  <a:pt x="781" y="2233"/>
                </a:cubicBezTo>
                <a:cubicBezTo>
                  <a:pt x="726" y="2208"/>
                  <a:pt x="675" y="2188"/>
                  <a:pt x="615" y="2178"/>
                </a:cubicBezTo>
                <a:cubicBezTo>
                  <a:pt x="555" y="2138"/>
                  <a:pt x="471" y="2135"/>
                  <a:pt x="402" y="2115"/>
                </a:cubicBezTo>
                <a:cubicBezTo>
                  <a:pt x="394" y="2110"/>
                  <a:pt x="381" y="2108"/>
                  <a:pt x="378" y="2099"/>
                </a:cubicBezTo>
                <a:cubicBezTo>
                  <a:pt x="369" y="2066"/>
                  <a:pt x="417" y="2005"/>
                  <a:pt x="434" y="1980"/>
                </a:cubicBezTo>
                <a:cubicBezTo>
                  <a:pt x="419" y="1923"/>
                  <a:pt x="425" y="1865"/>
                  <a:pt x="457" y="1815"/>
                </a:cubicBezTo>
                <a:cubicBezTo>
                  <a:pt x="424" y="1726"/>
                  <a:pt x="390" y="1758"/>
                  <a:pt x="276" y="1752"/>
                </a:cubicBezTo>
                <a:cubicBezTo>
                  <a:pt x="216" y="1745"/>
                  <a:pt x="167" y="1731"/>
                  <a:pt x="110" y="1712"/>
                </a:cubicBezTo>
                <a:cubicBezTo>
                  <a:pt x="53" y="1693"/>
                  <a:pt x="128" y="1688"/>
                  <a:pt x="39" y="1688"/>
                </a:cubicBezTo>
                <a:cubicBezTo>
                  <a:pt x="31" y="1688"/>
                  <a:pt x="55" y="1695"/>
                  <a:pt x="63" y="1696"/>
                </a:cubicBezTo>
                <a:cubicBezTo>
                  <a:pt x="97" y="1700"/>
                  <a:pt x="131" y="1701"/>
                  <a:pt x="165" y="1704"/>
                </a:cubicBezTo>
                <a:cubicBezTo>
                  <a:pt x="227" y="1714"/>
                  <a:pt x="279" y="1742"/>
                  <a:pt x="339" y="1759"/>
                </a:cubicBezTo>
                <a:cubicBezTo>
                  <a:pt x="344" y="1767"/>
                  <a:pt x="351" y="1774"/>
                  <a:pt x="355" y="1783"/>
                </a:cubicBezTo>
                <a:cubicBezTo>
                  <a:pt x="359" y="1791"/>
                  <a:pt x="359" y="1800"/>
                  <a:pt x="363" y="1807"/>
                </a:cubicBezTo>
                <a:cubicBezTo>
                  <a:pt x="372" y="1823"/>
                  <a:pt x="394" y="1854"/>
                  <a:pt x="394" y="1854"/>
                </a:cubicBezTo>
                <a:cubicBezTo>
                  <a:pt x="399" y="1886"/>
                  <a:pt x="405" y="1917"/>
                  <a:pt x="410" y="1949"/>
                </a:cubicBezTo>
                <a:cubicBezTo>
                  <a:pt x="415" y="1980"/>
                  <a:pt x="409" y="2013"/>
                  <a:pt x="418" y="2044"/>
                </a:cubicBezTo>
                <a:cubicBezTo>
                  <a:pt x="422" y="2058"/>
                  <a:pt x="466" y="2064"/>
                  <a:pt x="473" y="2067"/>
                </a:cubicBezTo>
                <a:cubicBezTo>
                  <a:pt x="592" y="2112"/>
                  <a:pt x="434" y="2057"/>
                  <a:pt x="528" y="2099"/>
                </a:cubicBezTo>
                <a:cubicBezTo>
                  <a:pt x="574" y="2120"/>
                  <a:pt x="580" y="2114"/>
                  <a:pt x="631" y="2122"/>
                </a:cubicBezTo>
                <a:cubicBezTo>
                  <a:pt x="644" y="2124"/>
                  <a:pt x="657" y="2126"/>
                  <a:pt x="670" y="2130"/>
                </a:cubicBezTo>
                <a:cubicBezTo>
                  <a:pt x="686" y="2134"/>
                  <a:pt x="718" y="2146"/>
                  <a:pt x="718" y="2146"/>
                </a:cubicBezTo>
                <a:cubicBezTo>
                  <a:pt x="748" y="2167"/>
                  <a:pt x="769" y="2171"/>
                  <a:pt x="805" y="2178"/>
                </a:cubicBezTo>
                <a:cubicBezTo>
                  <a:pt x="815" y="2183"/>
                  <a:pt x="826" y="2187"/>
                  <a:pt x="836" y="2193"/>
                </a:cubicBezTo>
                <a:cubicBezTo>
                  <a:pt x="852" y="2203"/>
                  <a:pt x="883" y="2225"/>
                  <a:pt x="883" y="2225"/>
                </a:cubicBezTo>
                <a:cubicBezTo>
                  <a:pt x="927" y="2290"/>
                  <a:pt x="870" y="2216"/>
                  <a:pt x="923" y="2257"/>
                </a:cubicBezTo>
                <a:cubicBezTo>
                  <a:pt x="1001" y="2318"/>
                  <a:pt x="937" y="2296"/>
                  <a:pt x="1002" y="2312"/>
                </a:cubicBezTo>
                <a:cubicBezTo>
                  <a:pt x="1033" y="2330"/>
                  <a:pt x="1056" y="2356"/>
                  <a:pt x="1089" y="2367"/>
                </a:cubicBezTo>
                <a:cubicBezTo>
                  <a:pt x="1105" y="2383"/>
                  <a:pt x="1115" y="2407"/>
                  <a:pt x="1136" y="2414"/>
                </a:cubicBezTo>
                <a:cubicBezTo>
                  <a:pt x="1152" y="2419"/>
                  <a:pt x="1183" y="2430"/>
                  <a:pt x="1183" y="2430"/>
                </a:cubicBezTo>
                <a:cubicBezTo>
                  <a:pt x="1193" y="2445"/>
                  <a:pt x="1197" y="2462"/>
                  <a:pt x="1207" y="2477"/>
                </a:cubicBezTo>
                <a:cubicBezTo>
                  <a:pt x="1213" y="2486"/>
                  <a:pt x="1224" y="2492"/>
                  <a:pt x="1231" y="2501"/>
                </a:cubicBezTo>
                <a:cubicBezTo>
                  <a:pt x="1237" y="2508"/>
                  <a:pt x="1241" y="2517"/>
                  <a:pt x="1246" y="2525"/>
                </a:cubicBezTo>
                <a:cubicBezTo>
                  <a:pt x="1262" y="2619"/>
                  <a:pt x="1302" y="2621"/>
                  <a:pt x="1349" y="2691"/>
                </a:cubicBezTo>
                <a:cubicBezTo>
                  <a:pt x="1333" y="2625"/>
                  <a:pt x="1316" y="2554"/>
                  <a:pt x="1286" y="2493"/>
                </a:cubicBezTo>
                <a:cubicBezTo>
                  <a:pt x="1271" y="2425"/>
                  <a:pt x="1253" y="2354"/>
                  <a:pt x="1215" y="2296"/>
                </a:cubicBezTo>
                <a:cubicBezTo>
                  <a:pt x="1207" y="2283"/>
                  <a:pt x="1198" y="2271"/>
                  <a:pt x="1191" y="2257"/>
                </a:cubicBezTo>
                <a:cubicBezTo>
                  <a:pt x="1187" y="2249"/>
                  <a:pt x="1189" y="2239"/>
                  <a:pt x="1183" y="2233"/>
                </a:cubicBezTo>
                <a:cubicBezTo>
                  <a:pt x="1172" y="2222"/>
                  <a:pt x="1157" y="2217"/>
                  <a:pt x="1144" y="2209"/>
                </a:cubicBezTo>
                <a:cubicBezTo>
                  <a:pt x="1037" y="2055"/>
                  <a:pt x="792" y="1997"/>
                  <a:pt x="623" y="1941"/>
                </a:cubicBezTo>
                <a:cubicBezTo>
                  <a:pt x="592" y="1918"/>
                  <a:pt x="557" y="1898"/>
                  <a:pt x="520" y="1886"/>
                </a:cubicBezTo>
                <a:cubicBezTo>
                  <a:pt x="482" y="1860"/>
                  <a:pt x="457" y="1852"/>
                  <a:pt x="418" y="1830"/>
                </a:cubicBezTo>
                <a:cubicBezTo>
                  <a:pt x="385" y="1811"/>
                  <a:pt x="359" y="1787"/>
                  <a:pt x="323" y="1775"/>
                </a:cubicBezTo>
                <a:cubicBezTo>
                  <a:pt x="282" y="1695"/>
                  <a:pt x="175" y="1688"/>
                  <a:pt x="94" y="1681"/>
                </a:cubicBezTo>
                <a:cubicBezTo>
                  <a:pt x="94" y="1681"/>
                  <a:pt x="47" y="1659"/>
                  <a:pt x="47" y="1681"/>
                </a:cubicBezTo>
                <a:cubicBezTo>
                  <a:pt x="47" y="1690"/>
                  <a:pt x="62" y="1693"/>
                  <a:pt x="71" y="1696"/>
                </a:cubicBezTo>
                <a:cubicBezTo>
                  <a:pt x="94" y="1704"/>
                  <a:pt x="118" y="1706"/>
                  <a:pt x="142" y="1712"/>
                </a:cubicBezTo>
                <a:cubicBezTo>
                  <a:pt x="163" y="1709"/>
                  <a:pt x="184" y="1705"/>
                  <a:pt x="205" y="1704"/>
                </a:cubicBezTo>
                <a:cubicBezTo>
                  <a:pt x="300" y="1700"/>
                  <a:pt x="395" y="1703"/>
                  <a:pt x="489" y="1696"/>
                </a:cubicBezTo>
                <a:cubicBezTo>
                  <a:pt x="531" y="1693"/>
                  <a:pt x="588" y="1670"/>
                  <a:pt x="631" y="1665"/>
                </a:cubicBezTo>
                <a:cubicBezTo>
                  <a:pt x="741" y="1681"/>
                  <a:pt x="837" y="1674"/>
                  <a:pt x="939" y="1633"/>
                </a:cubicBezTo>
                <a:cubicBezTo>
                  <a:pt x="948" y="1629"/>
                  <a:pt x="954" y="1622"/>
                  <a:pt x="962" y="1617"/>
                </a:cubicBezTo>
                <a:cubicBezTo>
                  <a:pt x="972" y="1611"/>
                  <a:pt x="983" y="1606"/>
                  <a:pt x="994" y="1602"/>
                </a:cubicBezTo>
                <a:cubicBezTo>
                  <a:pt x="1009" y="1596"/>
                  <a:pt x="1041" y="1586"/>
                  <a:pt x="1041" y="1586"/>
                </a:cubicBezTo>
                <a:cubicBezTo>
                  <a:pt x="1073" y="1523"/>
                  <a:pt x="1152" y="1516"/>
                  <a:pt x="1207" y="1475"/>
                </a:cubicBezTo>
                <a:cubicBezTo>
                  <a:pt x="1279" y="1420"/>
                  <a:pt x="1314" y="1375"/>
                  <a:pt x="1373" y="1318"/>
                </a:cubicBezTo>
                <a:cubicBezTo>
                  <a:pt x="1376" y="1310"/>
                  <a:pt x="1389" y="1297"/>
                  <a:pt x="1381" y="1294"/>
                </a:cubicBezTo>
                <a:cubicBezTo>
                  <a:pt x="1376" y="1292"/>
                  <a:pt x="1331" y="1321"/>
                  <a:pt x="1325" y="1325"/>
                </a:cubicBezTo>
                <a:cubicBezTo>
                  <a:pt x="1290" y="1348"/>
                  <a:pt x="1260" y="1370"/>
                  <a:pt x="1223" y="1389"/>
                </a:cubicBezTo>
                <a:cubicBezTo>
                  <a:pt x="1215" y="1399"/>
                  <a:pt x="1207" y="1409"/>
                  <a:pt x="1199" y="1420"/>
                </a:cubicBezTo>
                <a:cubicBezTo>
                  <a:pt x="1188" y="1436"/>
                  <a:pt x="1167" y="1468"/>
                  <a:pt x="1167" y="1468"/>
                </a:cubicBezTo>
                <a:cubicBezTo>
                  <a:pt x="1157" y="1500"/>
                  <a:pt x="1104" y="1546"/>
                  <a:pt x="1104" y="1546"/>
                </a:cubicBezTo>
                <a:cubicBezTo>
                  <a:pt x="1099" y="1557"/>
                  <a:pt x="1098" y="1571"/>
                  <a:pt x="1089" y="1578"/>
                </a:cubicBezTo>
                <a:cubicBezTo>
                  <a:pt x="1076" y="1588"/>
                  <a:pt x="1041" y="1594"/>
                  <a:pt x="1041" y="1594"/>
                </a:cubicBezTo>
                <a:cubicBezTo>
                  <a:pt x="975" y="1660"/>
                  <a:pt x="902" y="1691"/>
                  <a:pt x="812" y="1704"/>
                </a:cubicBezTo>
                <a:cubicBezTo>
                  <a:pt x="573" y="1773"/>
                  <a:pt x="565" y="1753"/>
                  <a:pt x="205" y="1759"/>
                </a:cubicBezTo>
                <a:cubicBezTo>
                  <a:pt x="143" y="1775"/>
                  <a:pt x="84" y="1754"/>
                  <a:pt x="23" y="1744"/>
                </a:cubicBezTo>
                <a:cubicBezTo>
                  <a:pt x="15" y="1739"/>
                  <a:pt x="0" y="1737"/>
                  <a:pt x="0" y="1728"/>
                </a:cubicBezTo>
                <a:cubicBezTo>
                  <a:pt x="0" y="1720"/>
                  <a:pt x="15" y="1734"/>
                  <a:pt x="23" y="1736"/>
                </a:cubicBezTo>
                <a:cubicBezTo>
                  <a:pt x="167" y="1765"/>
                  <a:pt x="77" y="1740"/>
                  <a:pt x="142" y="1759"/>
                </a:cubicBezTo>
                <a:cubicBezTo>
                  <a:pt x="198" y="1797"/>
                  <a:pt x="171" y="1786"/>
                  <a:pt x="221" y="1799"/>
                </a:cubicBezTo>
                <a:cubicBezTo>
                  <a:pt x="240" y="1809"/>
                  <a:pt x="257" y="1822"/>
                  <a:pt x="276" y="1830"/>
                </a:cubicBezTo>
                <a:cubicBezTo>
                  <a:pt x="291" y="1837"/>
                  <a:pt x="323" y="1846"/>
                  <a:pt x="323" y="1846"/>
                </a:cubicBezTo>
                <a:cubicBezTo>
                  <a:pt x="350" y="1886"/>
                  <a:pt x="332" y="1893"/>
                  <a:pt x="378" y="1917"/>
                </a:cubicBezTo>
                <a:cubicBezTo>
                  <a:pt x="416" y="1974"/>
                  <a:pt x="405" y="1946"/>
                  <a:pt x="418" y="1996"/>
                </a:cubicBezTo>
                <a:cubicBezTo>
                  <a:pt x="315" y="2001"/>
                  <a:pt x="188" y="1994"/>
                  <a:pt x="86" y="2020"/>
                </a:cubicBezTo>
                <a:cubicBezTo>
                  <a:pt x="65" y="2030"/>
                  <a:pt x="44" y="2041"/>
                  <a:pt x="23" y="2051"/>
                </a:cubicBezTo>
                <a:cubicBezTo>
                  <a:pt x="15" y="2055"/>
                  <a:pt x="1" y="2068"/>
                  <a:pt x="8" y="2075"/>
                </a:cubicBezTo>
                <a:cubicBezTo>
                  <a:pt x="15" y="2082"/>
                  <a:pt x="23" y="2064"/>
                  <a:pt x="31" y="2059"/>
                </a:cubicBezTo>
                <a:cubicBezTo>
                  <a:pt x="41" y="2053"/>
                  <a:pt x="52" y="2049"/>
                  <a:pt x="63" y="2044"/>
                </a:cubicBezTo>
                <a:cubicBezTo>
                  <a:pt x="86" y="2012"/>
                  <a:pt x="103" y="1984"/>
                  <a:pt x="142" y="1973"/>
                </a:cubicBezTo>
                <a:cubicBezTo>
                  <a:pt x="180" y="1947"/>
                  <a:pt x="217" y="1910"/>
                  <a:pt x="260" y="1894"/>
                </a:cubicBezTo>
                <a:cubicBezTo>
                  <a:pt x="315" y="1874"/>
                  <a:pt x="376" y="1871"/>
                  <a:pt x="426" y="1838"/>
                </a:cubicBezTo>
                <a:cubicBezTo>
                  <a:pt x="437" y="1883"/>
                  <a:pt x="432" y="1863"/>
                  <a:pt x="449" y="1917"/>
                </a:cubicBezTo>
                <a:cubicBezTo>
                  <a:pt x="452" y="1925"/>
                  <a:pt x="449" y="1937"/>
                  <a:pt x="457" y="1941"/>
                </a:cubicBezTo>
                <a:cubicBezTo>
                  <a:pt x="496" y="1961"/>
                  <a:pt x="525" y="1977"/>
                  <a:pt x="568" y="1988"/>
                </a:cubicBezTo>
                <a:cubicBezTo>
                  <a:pt x="632" y="2028"/>
                  <a:pt x="582" y="2004"/>
                  <a:pt x="670" y="2020"/>
                </a:cubicBezTo>
                <a:cubicBezTo>
                  <a:pt x="708" y="2027"/>
                  <a:pt x="681" y="2028"/>
                  <a:pt x="718" y="2044"/>
                </a:cubicBezTo>
                <a:cubicBezTo>
                  <a:pt x="733" y="2051"/>
                  <a:pt x="749" y="2054"/>
                  <a:pt x="765" y="2059"/>
                </a:cubicBezTo>
                <a:cubicBezTo>
                  <a:pt x="773" y="2062"/>
                  <a:pt x="789" y="2067"/>
                  <a:pt x="789" y="2067"/>
                </a:cubicBezTo>
                <a:cubicBezTo>
                  <a:pt x="817" y="2097"/>
                  <a:pt x="849" y="2100"/>
                  <a:pt x="883" y="2122"/>
                </a:cubicBezTo>
                <a:cubicBezTo>
                  <a:pt x="891" y="2133"/>
                  <a:pt x="897" y="2145"/>
                  <a:pt x="907" y="2154"/>
                </a:cubicBezTo>
                <a:cubicBezTo>
                  <a:pt x="921" y="2167"/>
                  <a:pt x="954" y="2186"/>
                  <a:pt x="954" y="2186"/>
                </a:cubicBezTo>
                <a:cubicBezTo>
                  <a:pt x="959" y="2194"/>
                  <a:pt x="966" y="2200"/>
                  <a:pt x="970" y="2209"/>
                </a:cubicBezTo>
                <a:cubicBezTo>
                  <a:pt x="974" y="2219"/>
                  <a:pt x="971" y="2233"/>
                  <a:pt x="978" y="2241"/>
                </a:cubicBezTo>
                <a:cubicBezTo>
                  <a:pt x="987" y="2251"/>
                  <a:pt x="1019" y="2260"/>
                  <a:pt x="1033" y="2264"/>
                </a:cubicBezTo>
                <a:cubicBezTo>
                  <a:pt x="1049" y="2275"/>
                  <a:pt x="1071" y="2280"/>
                  <a:pt x="1081" y="2296"/>
                </a:cubicBezTo>
                <a:cubicBezTo>
                  <a:pt x="1099" y="2325"/>
                  <a:pt x="1099" y="2340"/>
                  <a:pt x="1128" y="2359"/>
                </a:cubicBezTo>
                <a:cubicBezTo>
                  <a:pt x="1139" y="2376"/>
                  <a:pt x="1157" y="2388"/>
                  <a:pt x="1167" y="2406"/>
                </a:cubicBezTo>
                <a:cubicBezTo>
                  <a:pt x="1177" y="2424"/>
                  <a:pt x="1195" y="2502"/>
                  <a:pt x="1199" y="2517"/>
                </a:cubicBezTo>
                <a:cubicBezTo>
                  <a:pt x="1202" y="2528"/>
                  <a:pt x="1238" y="2538"/>
                  <a:pt x="1246" y="2541"/>
                </a:cubicBezTo>
                <a:cubicBezTo>
                  <a:pt x="1263" y="2573"/>
                  <a:pt x="1294" y="2607"/>
                  <a:pt x="1325" y="2627"/>
                </a:cubicBezTo>
                <a:cubicBezTo>
                  <a:pt x="1374" y="2700"/>
                  <a:pt x="1353" y="2582"/>
                  <a:pt x="1349" y="2572"/>
                </a:cubicBezTo>
                <a:cubicBezTo>
                  <a:pt x="1334" y="2534"/>
                  <a:pt x="1293" y="2503"/>
                  <a:pt x="1270" y="2470"/>
                </a:cubicBezTo>
                <a:cubicBezTo>
                  <a:pt x="1256" y="2427"/>
                  <a:pt x="1214" y="2409"/>
                  <a:pt x="1175" y="2391"/>
                </a:cubicBezTo>
                <a:cubicBezTo>
                  <a:pt x="1098" y="2314"/>
                  <a:pt x="1012" y="2260"/>
                  <a:pt x="923" y="2201"/>
                </a:cubicBezTo>
                <a:cubicBezTo>
                  <a:pt x="906" y="2190"/>
                  <a:pt x="893" y="2173"/>
                  <a:pt x="876" y="2162"/>
                </a:cubicBezTo>
                <a:cubicBezTo>
                  <a:pt x="843" y="2141"/>
                  <a:pt x="806" y="2130"/>
                  <a:pt x="773" y="2107"/>
                </a:cubicBezTo>
                <a:cubicBezTo>
                  <a:pt x="711" y="2063"/>
                  <a:pt x="624" y="1989"/>
                  <a:pt x="552" y="1965"/>
                </a:cubicBezTo>
                <a:cubicBezTo>
                  <a:pt x="549" y="1957"/>
                  <a:pt x="551" y="1946"/>
                  <a:pt x="544" y="1941"/>
                </a:cubicBezTo>
                <a:cubicBezTo>
                  <a:pt x="539" y="1937"/>
                  <a:pt x="451" y="1903"/>
                  <a:pt x="442" y="1901"/>
                </a:cubicBezTo>
                <a:cubicBezTo>
                  <a:pt x="427" y="1892"/>
                  <a:pt x="409" y="1888"/>
                  <a:pt x="394" y="1878"/>
                </a:cubicBezTo>
                <a:cubicBezTo>
                  <a:pt x="356" y="1852"/>
                  <a:pt x="316" y="1815"/>
                  <a:pt x="284" y="1783"/>
                </a:cubicBezTo>
                <a:cubicBezTo>
                  <a:pt x="269" y="1768"/>
                  <a:pt x="242" y="1778"/>
                  <a:pt x="221" y="1775"/>
                </a:cubicBezTo>
                <a:cubicBezTo>
                  <a:pt x="148" y="1751"/>
                  <a:pt x="272" y="1710"/>
                  <a:pt x="300" y="1696"/>
                </a:cubicBezTo>
                <a:cubicBezTo>
                  <a:pt x="399" y="1646"/>
                  <a:pt x="505" y="1618"/>
                  <a:pt x="615" y="1610"/>
                </a:cubicBezTo>
                <a:cubicBezTo>
                  <a:pt x="658" y="1596"/>
                  <a:pt x="697" y="1581"/>
                  <a:pt x="741" y="1570"/>
                </a:cubicBezTo>
                <a:cubicBezTo>
                  <a:pt x="768" y="1552"/>
                  <a:pt x="788" y="1525"/>
                  <a:pt x="820" y="1515"/>
                </a:cubicBezTo>
                <a:cubicBezTo>
                  <a:pt x="903" y="1490"/>
                  <a:pt x="1010" y="1490"/>
                  <a:pt x="1096" y="1483"/>
                </a:cubicBezTo>
                <a:cubicBezTo>
                  <a:pt x="1157" y="1468"/>
                  <a:pt x="1201" y="1448"/>
                  <a:pt x="1254" y="1412"/>
                </a:cubicBezTo>
                <a:cubicBezTo>
                  <a:pt x="1262" y="1407"/>
                  <a:pt x="1239" y="1423"/>
                  <a:pt x="1231" y="1428"/>
                </a:cubicBezTo>
                <a:cubicBezTo>
                  <a:pt x="1222" y="1434"/>
                  <a:pt x="1216" y="1445"/>
                  <a:pt x="1207" y="1452"/>
                </a:cubicBezTo>
                <a:cubicBezTo>
                  <a:pt x="1177" y="1477"/>
                  <a:pt x="1149" y="1503"/>
                  <a:pt x="1112" y="1515"/>
                </a:cubicBezTo>
                <a:cubicBezTo>
                  <a:pt x="1088" y="1534"/>
                  <a:pt x="1057" y="1543"/>
                  <a:pt x="1033" y="1562"/>
                </a:cubicBezTo>
                <a:cubicBezTo>
                  <a:pt x="1017" y="1575"/>
                  <a:pt x="1009" y="1595"/>
                  <a:pt x="994" y="1610"/>
                </a:cubicBezTo>
                <a:cubicBezTo>
                  <a:pt x="964" y="1640"/>
                  <a:pt x="929" y="1666"/>
                  <a:pt x="899" y="1696"/>
                </a:cubicBezTo>
                <a:cubicBezTo>
                  <a:pt x="875" y="1720"/>
                  <a:pt x="834" y="1717"/>
                  <a:pt x="805" y="1728"/>
                </a:cubicBezTo>
                <a:cubicBezTo>
                  <a:pt x="748" y="1750"/>
                  <a:pt x="698" y="1787"/>
                  <a:pt x="639" y="1799"/>
                </a:cubicBezTo>
                <a:cubicBezTo>
                  <a:pt x="572" y="1832"/>
                  <a:pt x="540" y="1821"/>
                  <a:pt x="457" y="1815"/>
                </a:cubicBezTo>
                <a:cubicBezTo>
                  <a:pt x="439" y="1810"/>
                  <a:pt x="421" y="1798"/>
                  <a:pt x="402" y="1799"/>
                </a:cubicBezTo>
                <a:cubicBezTo>
                  <a:pt x="370" y="1801"/>
                  <a:pt x="307" y="1815"/>
                  <a:pt x="307" y="1815"/>
                </a:cubicBezTo>
                <a:cubicBezTo>
                  <a:pt x="299" y="1820"/>
                  <a:pt x="281" y="1821"/>
                  <a:pt x="284" y="1830"/>
                </a:cubicBezTo>
                <a:cubicBezTo>
                  <a:pt x="292" y="1854"/>
                  <a:pt x="351" y="1826"/>
                  <a:pt x="363" y="1823"/>
                </a:cubicBezTo>
                <a:cubicBezTo>
                  <a:pt x="461" y="1800"/>
                  <a:pt x="563" y="1770"/>
                  <a:pt x="662" y="1752"/>
                </a:cubicBezTo>
                <a:cubicBezTo>
                  <a:pt x="683" y="1744"/>
                  <a:pt x="705" y="1738"/>
                  <a:pt x="726" y="1728"/>
                </a:cubicBezTo>
                <a:cubicBezTo>
                  <a:pt x="747" y="1718"/>
                  <a:pt x="789" y="1696"/>
                  <a:pt x="789" y="1696"/>
                </a:cubicBezTo>
                <a:cubicBezTo>
                  <a:pt x="810" y="1637"/>
                  <a:pt x="849" y="1561"/>
                  <a:pt x="883" y="1507"/>
                </a:cubicBezTo>
                <a:cubicBezTo>
                  <a:pt x="878" y="1318"/>
                  <a:pt x="877" y="1260"/>
                  <a:pt x="860" y="1112"/>
                </a:cubicBezTo>
                <a:cubicBezTo>
                  <a:pt x="877" y="907"/>
                  <a:pt x="898" y="977"/>
                  <a:pt x="868" y="892"/>
                </a:cubicBezTo>
                <a:cubicBezTo>
                  <a:pt x="865" y="839"/>
                  <a:pt x="865" y="787"/>
                  <a:pt x="860" y="734"/>
                </a:cubicBezTo>
                <a:cubicBezTo>
                  <a:pt x="857" y="702"/>
                  <a:pt x="801" y="628"/>
                  <a:pt x="781" y="600"/>
                </a:cubicBezTo>
                <a:cubicBezTo>
                  <a:pt x="772" y="574"/>
                  <a:pt x="741" y="529"/>
                  <a:pt x="741" y="529"/>
                </a:cubicBezTo>
                <a:cubicBezTo>
                  <a:pt x="728" y="483"/>
                  <a:pt x="722" y="454"/>
                  <a:pt x="749" y="410"/>
                </a:cubicBezTo>
                <a:cubicBezTo>
                  <a:pt x="761" y="353"/>
                  <a:pt x="757" y="301"/>
                  <a:pt x="726" y="252"/>
                </a:cubicBezTo>
                <a:cubicBezTo>
                  <a:pt x="732" y="306"/>
                  <a:pt x="739" y="364"/>
                  <a:pt x="749" y="418"/>
                </a:cubicBezTo>
                <a:cubicBezTo>
                  <a:pt x="753" y="439"/>
                  <a:pt x="765" y="481"/>
                  <a:pt x="765" y="481"/>
                </a:cubicBezTo>
                <a:cubicBezTo>
                  <a:pt x="785" y="682"/>
                  <a:pt x="759" y="900"/>
                  <a:pt x="883" y="1073"/>
                </a:cubicBezTo>
                <a:cubicBezTo>
                  <a:pt x="891" y="1105"/>
                  <a:pt x="897" y="1125"/>
                  <a:pt x="915" y="1152"/>
                </a:cubicBezTo>
                <a:cubicBezTo>
                  <a:pt x="925" y="1210"/>
                  <a:pt x="930" y="1216"/>
                  <a:pt x="915" y="1286"/>
                </a:cubicBezTo>
                <a:cubicBezTo>
                  <a:pt x="911" y="1303"/>
                  <a:pt x="896" y="1316"/>
                  <a:pt x="891" y="1333"/>
                </a:cubicBezTo>
                <a:cubicBezTo>
                  <a:pt x="878" y="1378"/>
                  <a:pt x="867" y="1423"/>
                  <a:pt x="852" y="1468"/>
                </a:cubicBezTo>
                <a:cubicBezTo>
                  <a:pt x="848" y="1479"/>
                  <a:pt x="835" y="1482"/>
                  <a:pt x="828" y="1491"/>
                </a:cubicBezTo>
                <a:cubicBezTo>
                  <a:pt x="794" y="1535"/>
                  <a:pt x="773" y="1587"/>
                  <a:pt x="741" y="1633"/>
                </a:cubicBezTo>
                <a:cubicBezTo>
                  <a:pt x="721" y="1662"/>
                  <a:pt x="707" y="1709"/>
                  <a:pt x="686" y="1736"/>
                </a:cubicBezTo>
                <a:cubicBezTo>
                  <a:pt x="672" y="1753"/>
                  <a:pt x="655" y="1767"/>
                  <a:pt x="639" y="1783"/>
                </a:cubicBezTo>
                <a:cubicBezTo>
                  <a:pt x="607" y="1815"/>
                  <a:pt x="514" y="1812"/>
                  <a:pt x="481" y="1815"/>
                </a:cubicBezTo>
                <a:cubicBezTo>
                  <a:pt x="433" y="1827"/>
                  <a:pt x="459" y="1820"/>
                  <a:pt x="402" y="1838"/>
                </a:cubicBezTo>
                <a:cubicBezTo>
                  <a:pt x="393" y="1841"/>
                  <a:pt x="387" y="1850"/>
                  <a:pt x="378" y="1854"/>
                </a:cubicBezTo>
                <a:cubicBezTo>
                  <a:pt x="371" y="1858"/>
                  <a:pt x="355" y="1870"/>
                  <a:pt x="355" y="1862"/>
                </a:cubicBezTo>
                <a:cubicBezTo>
                  <a:pt x="355" y="1850"/>
                  <a:pt x="396" y="1841"/>
                  <a:pt x="402" y="1838"/>
                </a:cubicBezTo>
                <a:cubicBezTo>
                  <a:pt x="416" y="1831"/>
                  <a:pt x="427" y="1818"/>
                  <a:pt x="442" y="1815"/>
                </a:cubicBezTo>
                <a:cubicBezTo>
                  <a:pt x="491" y="1805"/>
                  <a:pt x="591" y="1799"/>
                  <a:pt x="591" y="1799"/>
                </a:cubicBezTo>
                <a:cubicBezTo>
                  <a:pt x="638" y="1783"/>
                  <a:pt x="688" y="1772"/>
                  <a:pt x="734" y="1752"/>
                </a:cubicBezTo>
                <a:cubicBezTo>
                  <a:pt x="794" y="1726"/>
                  <a:pt x="843" y="1682"/>
                  <a:pt x="907" y="1665"/>
                </a:cubicBezTo>
                <a:cubicBezTo>
                  <a:pt x="998" y="1574"/>
                  <a:pt x="967" y="1617"/>
                  <a:pt x="1002" y="1515"/>
                </a:cubicBezTo>
                <a:cubicBezTo>
                  <a:pt x="1006" y="1367"/>
                  <a:pt x="1036" y="1261"/>
                  <a:pt x="994" y="1136"/>
                </a:cubicBezTo>
                <a:cubicBezTo>
                  <a:pt x="986" y="1076"/>
                  <a:pt x="970" y="1022"/>
                  <a:pt x="954" y="963"/>
                </a:cubicBezTo>
                <a:cubicBezTo>
                  <a:pt x="940" y="912"/>
                  <a:pt x="938" y="867"/>
                  <a:pt x="899" y="828"/>
                </a:cubicBezTo>
                <a:cubicBezTo>
                  <a:pt x="890" y="801"/>
                  <a:pt x="888" y="767"/>
                  <a:pt x="876" y="742"/>
                </a:cubicBezTo>
                <a:cubicBezTo>
                  <a:pt x="865" y="719"/>
                  <a:pt x="836" y="678"/>
                  <a:pt x="836" y="678"/>
                </a:cubicBezTo>
                <a:cubicBezTo>
                  <a:pt x="826" y="638"/>
                  <a:pt x="814" y="600"/>
                  <a:pt x="805" y="560"/>
                </a:cubicBezTo>
                <a:cubicBezTo>
                  <a:pt x="801" y="543"/>
                  <a:pt x="797" y="517"/>
                  <a:pt x="781" y="505"/>
                </a:cubicBezTo>
                <a:cubicBezTo>
                  <a:pt x="769" y="497"/>
                  <a:pt x="754" y="494"/>
                  <a:pt x="741" y="489"/>
                </a:cubicBezTo>
                <a:cubicBezTo>
                  <a:pt x="733" y="463"/>
                  <a:pt x="676" y="396"/>
                  <a:pt x="734" y="434"/>
                </a:cubicBezTo>
                <a:cubicBezTo>
                  <a:pt x="742" y="462"/>
                  <a:pt x="752" y="480"/>
                  <a:pt x="765" y="505"/>
                </a:cubicBezTo>
                <a:cubicBezTo>
                  <a:pt x="790" y="555"/>
                  <a:pt x="785" y="605"/>
                  <a:pt x="836" y="639"/>
                </a:cubicBezTo>
                <a:cubicBezTo>
                  <a:pt x="850" y="694"/>
                  <a:pt x="852" y="748"/>
                  <a:pt x="883" y="797"/>
                </a:cubicBezTo>
                <a:cubicBezTo>
                  <a:pt x="923" y="950"/>
                  <a:pt x="933" y="1121"/>
                  <a:pt x="876" y="1270"/>
                </a:cubicBezTo>
                <a:cubicBezTo>
                  <a:pt x="863" y="1363"/>
                  <a:pt x="852" y="1475"/>
                  <a:pt x="812" y="1562"/>
                </a:cubicBezTo>
                <a:cubicBezTo>
                  <a:pt x="800" y="1588"/>
                  <a:pt x="785" y="1613"/>
                  <a:pt x="765" y="1633"/>
                </a:cubicBezTo>
                <a:cubicBezTo>
                  <a:pt x="749" y="1649"/>
                  <a:pt x="718" y="1681"/>
                  <a:pt x="718" y="1681"/>
                </a:cubicBezTo>
                <a:cubicBezTo>
                  <a:pt x="698" y="1729"/>
                  <a:pt x="709" y="1737"/>
                  <a:pt x="662" y="1759"/>
                </a:cubicBezTo>
                <a:cubicBezTo>
                  <a:pt x="626" y="1817"/>
                  <a:pt x="549" y="1826"/>
                  <a:pt x="489" y="1846"/>
                </a:cubicBezTo>
                <a:cubicBezTo>
                  <a:pt x="478" y="1843"/>
                  <a:pt x="461" y="1848"/>
                  <a:pt x="457" y="1838"/>
                </a:cubicBezTo>
                <a:cubicBezTo>
                  <a:pt x="454" y="1829"/>
                  <a:pt x="472" y="1827"/>
                  <a:pt x="481" y="1823"/>
                </a:cubicBezTo>
                <a:cubicBezTo>
                  <a:pt x="511" y="1811"/>
                  <a:pt x="545" y="1803"/>
                  <a:pt x="576" y="1791"/>
                </a:cubicBezTo>
                <a:cubicBezTo>
                  <a:pt x="597" y="1783"/>
                  <a:pt x="619" y="1778"/>
                  <a:pt x="639" y="1767"/>
                </a:cubicBezTo>
                <a:cubicBezTo>
                  <a:pt x="664" y="1753"/>
                  <a:pt x="684" y="1731"/>
                  <a:pt x="710" y="1720"/>
                </a:cubicBezTo>
                <a:cubicBezTo>
                  <a:pt x="758" y="1700"/>
                  <a:pt x="737" y="1712"/>
                  <a:pt x="773" y="1688"/>
                </a:cubicBezTo>
                <a:cubicBezTo>
                  <a:pt x="784" y="1657"/>
                  <a:pt x="799" y="1619"/>
                  <a:pt x="820" y="1594"/>
                </a:cubicBezTo>
                <a:cubicBezTo>
                  <a:pt x="837" y="1574"/>
                  <a:pt x="862" y="1561"/>
                  <a:pt x="876" y="1539"/>
                </a:cubicBezTo>
                <a:cubicBezTo>
                  <a:pt x="892" y="1513"/>
                  <a:pt x="901" y="1487"/>
                  <a:pt x="915" y="1460"/>
                </a:cubicBezTo>
                <a:cubicBezTo>
                  <a:pt x="929" y="1407"/>
                  <a:pt x="948" y="1363"/>
                  <a:pt x="962" y="1310"/>
                </a:cubicBezTo>
                <a:cubicBezTo>
                  <a:pt x="966" y="1278"/>
                  <a:pt x="978" y="1247"/>
                  <a:pt x="978" y="1215"/>
                </a:cubicBezTo>
                <a:cubicBezTo>
                  <a:pt x="978" y="1100"/>
                  <a:pt x="966" y="1013"/>
                  <a:pt x="931" y="907"/>
                </a:cubicBezTo>
                <a:cubicBezTo>
                  <a:pt x="928" y="899"/>
                  <a:pt x="920" y="861"/>
                  <a:pt x="915" y="852"/>
                </a:cubicBezTo>
                <a:cubicBezTo>
                  <a:pt x="908" y="841"/>
                  <a:pt x="898" y="832"/>
                  <a:pt x="891" y="821"/>
                </a:cubicBezTo>
                <a:cubicBezTo>
                  <a:pt x="883" y="808"/>
                  <a:pt x="875" y="795"/>
                  <a:pt x="868" y="781"/>
                </a:cubicBezTo>
                <a:cubicBezTo>
                  <a:pt x="842" y="733"/>
                  <a:pt x="843" y="697"/>
                  <a:pt x="797" y="663"/>
                </a:cubicBezTo>
                <a:cubicBezTo>
                  <a:pt x="783" y="620"/>
                  <a:pt x="766" y="565"/>
                  <a:pt x="741" y="529"/>
                </a:cubicBezTo>
                <a:cubicBezTo>
                  <a:pt x="739" y="518"/>
                  <a:pt x="736" y="508"/>
                  <a:pt x="734" y="497"/>
                </a:cubicBezTo>
                <a:cubicBezTo>
                  <a:pt x="731" y="476"/>
                  <a:pt x="726" y="413"/>
                  <a:pt x="726" y="434"/>
                </a:cubicBezTo>
                <a:cubicBezTo>
                  <a:pt x="726" y="463"/>
                  <a:pt x="729" y="492"/>
                  <a:pt x="734" y="521"/>
                </a:cubicBezTo>
                <a:cubicBezTo>
                  <a:pt x="743" y="576"/>
                  <a:pt x="744" y="569"/>
                  <a:pt x="773" y="607"/>
                </a:cubicBezTo>
                <a:cubicBezTo>
                  <a:pt x="778" y="626"/>
                  <a:pt x="782" y="645"/>
                  <a:pt x="789" y="663"/>
                </a:cubicBezTo>
                <a:cubicBezTo>
                  <a:pt x="793" y="674"/>
                  <a:pt x="801" y="683"/>
                  <a:pt x="805" y="694"/>
                </a:cubicBezTo>
                <a:cubicBezTo>
                  <a:pt x="823" y="749"/>
                  <a:pt x="821" y="784"/>
                  <a:pt x="852" y="828"/>
                </a:cubicBezTo>
                <a:cubicBezTo>
                  <a:pt x="870" y="881"/>
                  <a:pt x="897" y="936"/>
                  <a:pt x="923" y="986"/>
                </a:cubicBezTo>
                <a:cubicBezTo>
                  <a:pt x="942" y="1060"/>
                  <a:pt x="973" y="1130"/>
                  <a:pt x="986" y="1207"/>
                </a:cubicBezTo>
                <a:cubicBezTo>
                  <a:pt x="960" y="1286"/>
                  <a:pt x="979" y="1223"/>
                  <a:pt x="962" y="1404"/>
                </a:cubicBezTo>
                <a:cubicBezTo>
                  <a:pt x="958" y="1444"/>
                  <a:pt x="929" y="1463"/>
                  <a:pt x="907" y="1491"/>
                </a:cubicBezTo>
                <a:cubicBezTo>
                  <a:pt x="890" y="1512"/>
                  <a:pt x="885" y="1541"/>
                  <a:pt x="868" y="1562"/>
                </a:cubicBezTo>
                <a:cubicBezTo>
                  <a:pt x="862" y="1569"/>
                  <a:pt x="851" y="1572"/>
                  <a:pt x="844" y="1578"/>
                </a:cubicBezTo>
                <a:cubicBezTo>
                  <a:pt x="803" y="1612"/>
                  <a:pt x="796" y="1643"/>
                  <a:pt x="741" y="1657"/>
                </a:cubicBezTo>
                <a:cubicBezTo>
                  <a:pt x="727" y="1667"/>
                  <a:pt x="708" y="1671"/>
                  <a:pt x="694" y="1681"/>
                </a:cubicBezTo>
                <a:cubicBezTo>
                  <a:pt x="682" y="1689"/>
                  <a:pt x="673" y="1702"/>
                  <a:pt x="662" y="1712"/>
                </a:cubicBezTo>
                <a:cubicBezTo>
                  <a:pt x="655" y="1718"/>
                  <a:pt x="647" y="1723"/>
                  <a:pt x="639" y="1728"/>
                </a:cubicBezTo>
                <a:cubicBezTo>
                  <a:pt x="597" y="1792"/>
                  <a:pt x="656" y="1711"/>
                  <a:pt x="591" y="1767"/>
                </a:cubicBezTo>
                <a:cubicBezTo>
                  <a:pt x="552" y="1800"/>
                  <a:pt x="587" y="1796"/>
                  <a:pt x="544" y="1815"/>
                </a:cubicBezTo>
                <a:cubicBezTo>
                  <a:pt x="529" y="1822"/>
                  <a:pt x="497" y="1830"/>
                  <a:pt x="497" y="1830"/>
                </a:cubicBezTo>
                <a:cubicBezTo>
                  <a:pt x="481" y="1841"/>
                  <a:pt x="465" y="1851"/>
                  <a:pt x="449" y="1862"/>
                </a:cubicBezTo>
                <a:cubicBezTo>
                  <a:pt x="426" y="1877"/>
                  <a:pt x="482" y="1926"/>
                  <a:pt x="489" y="1933"/>
                </a:cubicBezTo>
                <a:cubicBezTo>
                  <a:pt x="508" y="1991"/>
                  <a:pt x="481" y="1921"/>
                  <a:pt x="520" y="1980"/>
                </a:cubicBezTo>
                <a:cubicBezTo>
                  <a:pt x="554" y="2032"/>
                  <a:pt x="564" y="2070"/>
                  <a:pt x="615" y="2115"/>
                </a:cubicBezTo>
                <a:cubicBezTo>
                  <a:pt x="647" y="2143"/>
                  <a:pt x="693" y="2151"/>
                  <a:pt x="726" y="2178"/>
                </a:cubicBezTo>
                <a:cubicBezTo>
                  <a:pt x="742" y="2191"/>
                  <a:pt x="748" y="2213"/>
                  <a:pt x="765" y="2225"/>
                </a:cubicBezTo>
                <a:cubicBezTo>
                  <a:pt x="784" y="2239"/>
                  <a:pt x="809" y="2243"/>
                  <a:pt x="828" y="2257"/>
                </a:cubicBezTo>
                <a:cubicBezTo>
                  <a:pt x="880" y="2296"/>
                  <a:pt x="900" y="2315"/>
                  <a:pt x="962" y="2328"/>
                </a:cubicBezTo>
                <a:cubicBezTo>
                  <a:pt x="988" y="2346"/>
                  <a:pt x="1010" y="2375"/>
                  <a:pt x="1041" y="2383"/>
                </a:cubicBezTo>
                <a:cubicBezTo>
                  <a:pt x="1115" y="2402"/>
                  <a:pt x="1084" y="2390"/>
                  <a:pt x="1136" y="2414"/>
                </a:cubicBezTo>
                <a:cubicBezTo>
                  <a:pt x="1176" y="2455"/>
                  <a:pt x="1195" y="2468"/>
                  <a:pt x="1246" y="2493"/>
                </a:cubicBezTo>
                <a:cubicBezTo>
                  <a:pt x="1265" y="2512"/>
                  <a:pt x="1275" y="2537"/>
                  <a:pt x="1294" y="2556"/>
                </a:cubicBezTo>
                <a:cubicBezTo>
                  <a:pt x="1318" y="2580"/>
                  <a:pt x="1349" y="2596"/>
                  <a:pt x="1373" y="2620"/>
                </a:cubicBezTo>
                <a:cubicBezTo>
                  <a:pt x="1384" y="2663"/>
                  <a:pt x="1400" y="2691"/>
                  <a:pt x="1444" y="2706"/>
                </a:cubicBezTo>
                <a:cubicBezTo>
                  <a:pt x="1449" y="2717"/>
                  <a:pt x="1451" y="2746"/>
                  <a:pt x="1459" y="2738"/>
                </a:cubicBezTo>
                <a:cubicBezTo>
                  <a:pt x="1469" y="2728"/>
                  <a:pt x="1458" y="2710"/>
                  <a:pt x="1452" y="2698"/>
                </a:cubicBezTo>
                <a:cubicBezTo>
                  <a:pt x="1444" y="2681"/>
                  <a:pt x="1429" y="2668"/>
                  <a:pt x="1420" y="2651"/>
                </a:cubicBezTo>
                <a:cubicBezTo>
                  <a:pt x="1409" y="2630"/>
                  <a:pt x="1407" y="2601"/>
                  <a:pt x="1388" y="2588"/>
                </a:cubicBezTo>
                <a:cubicBezTo>
                  <a:pt x="1372" y="2577"/>
                  <a:pt x="1341" y="2556"/>
                  <a:pt x="1341" y="2556"/>
                </a:cubicBezTo>
                <a:cubicBezTo>
                  <a:pt x="1311" y="2513"/>
                  <a:pt x="1273" y="2480"/>
                  <a:pt x="1223" y="2462"/>
                </a:cubicBezTo>
                <a:cubicBezTo>
                  <a:pt x="1144" y="2357"/>
                  <a:pt x="1260" y="2508"/>
                  <a:pt x="1167" y="2399"/>
                </a:cubicBezTo>
                <a:cubicBezTo>
                  <a:pt x="1161" y="2392"/>
                  <a:pt x="1159" y="2381"/>
                  <a:pt x="1152" y="2375"/>
                </a:cubicBezTo>
                <a:cubicBezTo>
                  <a:pt x="1125" y="2352"/>
                  <a:pt x="1075" y="2329"/>
                  <a:pt x="1041" y="2312"/>
                </a:cubicBezTo>
                <a:cubicBezTo>
                  <a:pt x="1033" y="2301"/>
                  <a:pt x="1028" y="2289"/>
                  <a:pt x="1018" y="2280"/>
                </a:cubicBezTo>
                <a:cubicBezTo>
                  <a:pt x="1004" y="2267"/>
                  <a:pt x="970" y="2249"/>
                  <a:pt x="970" y="2249"/>
                </a:cubicBezTo>
                <a:cubicBezTo>
                  <a:pt x="933" y="2197"/>
                  <a:pt x="869" y="2156"/>
                  <a:pt x="820" y="2115"/>
                </a:cubicBezTo>
                <a:cubicBezTo>
                  <a:pt x="779" y="2081"/>
                  <a:pt x="813" y="2103"/>
                  <a:pt x="781" y="2059"/>
                </a:cubicBezTo>
                <a:cubicBezTo>
                  <a:pt x="769" y="2042"/>
                  <a:pt x="741" y="2025"/>
                  <a:pt x="726" y="2012"/>
                </a:cubicBezTo>
                <a:cubicBezTo>
                  <a:pt x="674" y="1967"/>
                  <a:pt x="619" y="1950"/>
                  <a:pt x="552" y="1933"/>
                </a:cubicBezTo>
                <a:cubicBezTo>
                  <a:pt x="534" y="1879"/>
                  <a:pt x="467" y="1875"/>
                  <a:pt x="418" y="1870"/>
                </a:cubicBezTo>
                <a:cubicBezTo>
                  <a:pt x="379" y="1844"/>
                  <a:pt x="404" y="1858"/>
                  <a:pt x="347" y="1838"/>
                </a:cubicBezTo>
                <a:cubicBezTo>
                  <a:pt x="339" y="1835"/>
                  <a:pt x="371" y="1846"/>
                  <a:pt x="371" y="1846"/>
                </a:cubicBezTo>
                <a:cubicBezTo>
                  <a:pt x="429" y="1907"/>
                  <a:pt x="519" y="1937"/>
                  <a:pt x="591" y="1980"/>
                </a:cubicBezTo>
                <a:cubicBezTo>
                  <a:pt x="628" y="2036"/>
                  <a:pt x="583" y="1979"/>
                  <a:pt x="631" y="2012"/>
                </a:cubicBezTo>
                <a:cubicBezTo>
                  <a:pt x="692" y="2054"/>
                  <a:pt x="739" y="2111"/>
                  <a:pt x="812" y="2130"/>
                </a:cubicBezTo>
                <a:cubicBezTo>
                  <a:pt x="840" y="2172"/>
                  <a:pt x="876" y="2179"/>
                  <a:pt x="923" y="2193"/>
                </a:cubicBezTo>
                <a:cubicBezTo>
                  <a:pt x="970" y="2256"/>
                  <a:pt x="1046" y="2314"/>
                  <a:pt x="1120" y="2343"/>
                </a:cubicBezTo>
                <a:cubicBezTo>
                  <a:pt x="1166" y="2389"/>
                  <a:pt x="1119" y="2350"/>
                  <a:pt x="1183" y="2375"/>
                </a:cubicBezTo>
                <a:cubicBezTo>
                  <a:pt x="1205" y="2383"/>
                  <a:pt x="1246" y="2406"/>
                  <a:pt x="1246" y="2406"/>
                </a:cubicBezTo>
                <a:cubicBezTo>
                  <a:pt x="1263" y="2432"/>
                  <a:pt x="1284" y="2448"/>
                  <a:pt x="1294" y="2477"/>
                </a:cubicBezTo>
                <a:cubicBezTo>
                  <a:pt x="1302" y="2527"/>
                  <a:pt x="1304" y="2594"/>
                  <a:pt x="1333" y="2635"/>
                </a:cubicBezTo>
                <a:cubicBezTo>
                  <a:pt x="1352" y="2693"/>
                  <a:pt x="1349" y="2625"/>
                  <a:pt x="1333" y="2604"/>
                </a:cubicBezTo>
                <a:cubicBezTo>
                  <a:pt x="1324" y="2592"/>
                  <a:pt x="1311" y="2584"/>
                  <a:pt x="1302" y="2572"/>
                </a:cubicBezTo>
                <a:cubicBezTo>
                  <a:pt x="1253" y="2506"/>
                  <a:pt x="1316" y="2572"/>
                  <a:pt x="1270" y="2517"/>
                </a:cubicBezTo>
                <a:cubicBezTo>
                  <a:pt x="1238" y="2479"/>
                  <a:pt x="1202" y="2434"/>
                  <a:pt x="1160" y="2406"/>
                </a:cubicBezTo>
                <a:cubicBezTo>
                  <a:pt x="1145" y="2396"/>
                  <a:pt x="1127" y="2392"/>
                  <a:pt x="1112" y="2383"/>
                </a:cubicBezTo>
                <a:cubicBezTo>
                  <a:pt x="1101" y="2376"/>
                  <a:pt x="1092" y="2367"/>
                  <a:pt x="1081" y="2359"/>
                </a:cubicBezTo>
                <a:cubicBezTo>
                  <a:pt x="1050" y="2337"/>
                  <a:pt x="978" y="2312"/>
                  <a:pt x="978" y="2312"/>
                </a:cubicBezTo>
                <a:cubicBezTo>
                  <a:pt x="923" y="2256"/>
                  <a:pt x="951" y="2274"/>
                  <a:pt x="899" y="2249"/>
                </a:cubicBezTo>
                <a:cubicBezTo>
                  <a:pt x="818" y="2123"/>
                  <a:pt x="690" y="2051"/>
                  <a:pt x="552" y="2004"/>
                </a:cubicBezTo>
                <a:cubicBezTo>
                  <a:pt x="516" y="1977"/>
                  <a:pt x="501" y="1974"/>
                  <a:pt x="457" y="1965"/>
                </a:cubicBezTo>
                <a:cubicBezTo>
                  <a:pt x="443" y="1955"/>
                  <a:pt x="424" y="1952"/>
                  <a:pt x="410" y="1941"/>
                </a:cubicBezTo>
                <a:cubicBezTo>
                  <a:pt x="384" y="1920"/>
                  <a:pt x="366" y="1890"/>
                  <a:pt x="339" y="1870"/>
                </a:cubicBezTo>
                <a:cubicBezTo>
                  <a:pt x="328" y="1862"/>
                  <a:pt x="318" y="1854"/>
                  <a:pt x="307" y="1846"/>
                </a:cubicBezTo>
                <a:cubicBezTo>
                  <a:pt x="273" y="1735"/>
                  <a:pt x="452" y="1719"/>
                  <a:pt x="520" y="1712"/>
                </a:cubicBezTo>
                <a:cubicBezTo>
                  <a:pt x="561" y="1696"/>
                  <a:pt x="599" y="1684"/>
                  <a:pt x="639" y="1665"/>
                </a:cubicBezTo>
                <a:cubicBezTo>
                  <a:pt x="731" y="1569"/>
                  <a:pt x="776" y="1550"/>
                  <a:pt x="907" y="1523"/>
                </a:cubicBezTo>
                <a:cubicBezTo>
                  <a:pt x="964" y="1485"/>
                  <a:pt x="1025" y="1470"/>
                  <a:pt x="1081" y="1428"/>
                </a:cubicBezTo>
                <a:cubicBezTo>
                  <a:pt x="1127" y="1334"/>
                  <a:pt x="1089" y="1367"/>
                  <a:pt x="1215" y="1357"/>
                </a:cubicBezTo>
                <a:cubicBezTo>
                  <a:pt x="1216" y="1357"/>
                  <a:pt x="1282" y="1344"/>
                  <a:pt x="1286" y="1341"/>
                </a:cubicBezTo>
                <a:cubicBezTo>
                  <a:pt x="1297" y="1334"/>
                  <a:pt x="1301" y="1319"/>
                  <a:pt x="1310" y="1310"/>
                </a:cubicBezTo>
                <a:cubicBezTo>
                  <a:pt x="1317" y="1303"/>
                  <a:pt x="1325" y="1299"/>
                  <a:pt x="1333" y="1294"/>
                </a:cubicBezTo>
                <a:cubicBezTo>
                  <a:pt x="1349" y="1270"/>
                  <a:pt x="1357" y="1247"/>
                  <a:pt x="1373" y="1223"/>
                </a:cubicBezTo>
                <a:cubicBezTo>
                  <a:pt x="1500" y="1237"/>
                  <a:pt x="1426" y="1236"/>
                  <a:pt x="1373" y="1247"/>
                </a:cubicBezTo>
                <a:cubicBezTo>
                  <a:pt x="1309" y="1284"/>
                  <a:pt x="1250" y="1321"/>
                  <a:pt x="1191" y="1365"/>
                </a:cubicBezTo>
                <a:cubicBezTo>
                  <a:pt x="1170" y="1397"/>
                  <a:pt x="1153" y="1422"/>
                  <a:pt x="1120" y="1444"/>
                </a:cubicBezTo>
                <a:cubicBezTo>
                  <a:pt x="1098" y="1459"/>
                  <a:pt x="1009" y="1509"/>
                  <a:pt x="994" y="1531"/>
                </a:cubicBezTo>
                <a:cubicBezTo>
                  <a:pt x="944" y="1604"/>
                  <a:pt x="893" y="1663"/>
                  <a:pt x="805" y="1681"/>
                </a:cubicBezTo>
                <a:cubicBezTo>
                  <a:pt x="684" y="1774"/>
                  <a:pt x="758" y="1757"/>
                  <a:pt x="560" y="1767"/>
                </a:cubicBezTo>
                <a:cubicBezTo>
                  <a:pt x="523" y="1792"/>
                  <a:pt x="487" y="1814"/>
                  <a:pt x="449" y="1838"/>
                </a:cubicBezTo>
                <a:cubicBezTo>
                  <a:pt x="437" y="1863"/>
                  <a:pt x="414" y="1896"/>
                  <a:pt x="434" y="1925"/>
                </a:cubicBezTo>
                <a:cubicBezTo>
                  <a:pt x="461" y="1963"/>
                  <a:pt x="532" y="1983"/>
                  <a:pt x="568" y="2004"/>
                </a:cubicBezTo>
                <a:cubicBezTo>
                  <a:pt x="579" y="2011"/>
                  <a:pt x="589" y="2019"/>
                  <a:pt x="599" y="2028"/>
                </a:cubicBezTo>
                <a:cubicBezTo>
                  <a:pt x="610" y="2038"/>
                  <a:pt x="618" y="2051"/>
                  <a:pt x="631" y="2059"/>
                </a:cubicBezTo>
                <a:cubicBezTo>
                  <a:pt x="672" y="2085"/>
                  <a:pt x="838" y="2184"/>
                  <a:pt x="891" y="2193"/>
                </a:cubicBezTo>
                <a:cubicBezTo>
                  <a:pt x="932" y="2222"/>
                  <a:pt x="961" y="2235"/>
                  <a:pt x="1002" y="2257"/>
                </a:cubicBezTo>
                <a:cubicBezTo>
                  <a:pt x="1099" y="2309"/>
                  <a:pt x="1032" y="2285"/>
                  <a:pt x="1089" y="2304"/>
                </a:cubicBezTo>
                <a:cubicBezTo>
                  <a:pt x="1135" y="2377"/>
                  <a:pt x="1058" y="2260"/>
                  <a:pt x="1144" y="2359"/>
                </a:cubicBezTo>
                <a:cubicBezTo>
                  <a:pt x="1150" y="2365"/>
                  <a:pt x="1147" y="2376"/>
                  <a:pt x="1152" y="2383"/>
                </a:cubicBezTo>
                <a:cubicBezTo>
                  <a:pt x="1181" y="2424"/>
                  <a:pt x="1182" y="2405"/>
                  <a:pt x="1215" y="2438"/>
                </a:cubicBezTo>
                <a:cubicBezTo>
                  <a:pt x="1266" y="2489"/>
                  <a:pt x="1194" y="2438"/>
                  <a:pt x="1254" y="2477"/>
                </a:cubicBezTo>
                <a:cubicBezTo>
                  <a:pt x="1275" y="2541"/>
                  <a:pt x="1303" y="2572"/>
                  <a:pt x="1341" y="2627"/>
                </a:cubicBezTo>
                <a:cubicBezTo>
                  <a:pt x="1346" y="2643"/>
                  <a:pt x="1364" y="2686"/>
                  <a:pt x="1341" y="2675"/>
                </a:cubicBezTo>
                <a:cubicBezTo>
                  <a:pt x="1331" y="2670"/>
                  <a:pt x="1337" y="2653"/>
                  <a:pt x="1333" y="2643"/>
                </a:cubicBezTo>
                <a:cubicBezTo>
                  <a:pt x="1327" y="2629"/>
                  <a:pt x="1317" y="2618"/>
                  <a:pt x="1310" y="2604"/>
                </a:cubicBezTo>
                <a:cubicBezTo>
                  <a:pt x="1306" y="2596"/>
                  <a:pt x="1308" y="2586"/>
                  <a:pt x="1302" y="2580"/>
                </a:cubicBezTo>
                <a:cubicBezTo>
                  <a:pt x="1291" y="2567"/>
                  <a:pt x="1275" y="2560"/>
                  <a:pt x="1262" y="2549"/>
                </a:cubicBezTo>
                <a:cubicBezTo>
                  <a:pt x="1211" y="2503"/>
                  <a:pt x="1161" y="2466"/>
                  <a:pt x="1104" y="2430"/>
                </a:cubicBezTo>
                <a:cubicBezTo>
                  <a:pt x="1060" y="2402"/>
                  <a:pt x="986" y="2328"/>
                  <a:pt x="986" y="2328"/>
                </a:cubicBezTo>
                <a:cubicBezTo>
                  <a:pt x="955" y="2266"/>
                  <a:pt x="790" y="2168"/>
                  <a:pt x="718" y="2154"/>
                </a:cubicBezTo>
                <a:cubicBezTo>
                  <a:pt x="687" y="2148"/>
                  <a:pt x="655" y="2149"/>
                  <a:pt x="623" y="2146"/>
                </a:cubicBezTo>
                <a:cubicBezTo>
                  <a:pt x="553" y="2111"/>
                  <a:pt x="498" y="2045"/>
                  <a:pt x="457" y="1980"/>
                </a:cubicBezTo>
                <a:cubicBezTo>
                  <a:pt x="439" y="1951"/>
                  <a:pt x="429" y="1922"/>
                  <a:pt x="410" y="1894"/>
                </a:cubicBezTo>
                <a:cubicBezTo>
                  <a:pt x="396" y="1852"/>
                  <a:pt x="407" y="1877"/>
                  <a:pt x="371" y="1823"/>
                </a:cubicBezTo>
                <a:cubicBezTo>
                  <a:pt x="366" y="1815"/>
                  <a:pt x="355" y="1799"/>
                  <a:pt x="355" y="1799"/>
                </a:cubicBezTo>
                <a:cubicBezTo>
                  <a:pt x="358" y="1783"/>
                  <a:pt x="355" y="1766"/>
                  <a:pt x="363" y="1752"/>
                </a:cubicBezTo>
                <a:cubicBezTo>
                  <a:pt x="376" y="1731"/>
                  <a:pt x="458" y="1708"/>
                  <a:pt x="481" y="1688"/>
                </a:cubicBezTo>
                <a:cubicBezTo>
                  <a:pt x="543" y="1636"/>
                  <a:pt x="589" y="1571"/>
                  <a:pt x="647" y="1515"/>
                </a:cubicBezTo>
                <a:cubicBezTo>
                  <a:pt x="669" y="1471"/>
                  <a:pt x="684" y="1418"/>
                  <a:pt x="718" y="1381"/>
                </a:cubicBezTo>
                <a:cubicBezTo>
                  <a:pt x="732" y="1365"/>
                  <a:pt x="757" y="1363"/>
                  <a:pt x="773" y="1349"/>
                </a:cubicBezTo>
                <a:cubicBezTo>
                  <a:pt x="819" y="1311"/>
                  <a:pt x="865" y="1281"/>
                  <a:pt x="923" y="1262"/>
                </a:cubicBezTo>
                <a:cubicBezTo>
                  <a:pt x="941" y="1226"/>
                  <a:pt x="957" y="1196"/>
                  <a:pt x="986" y="1168"/>
                </a:cubicBezTo>
                <a:cubicBezTo>
                  <a:pt x="989" y="1160"/>
                  <a:pt x="990" y="1151"/>
                  <a:pt x="994" y="1144"/>
                </a:cubicBezTo>
                <a:cubicBezTo>
                  <a:pt x="1001" y="1132"/>
                  <a:pt x="1012" y="1124"/>
                  <a:pt x="1018" y="1112"/>
                </a:cubicBezTo>
                <a:cubicBezTo>
                  <a:pt x="1028" y="1089"/>
                  <a:pt x="1041" y="1041"/>
                  <a:pt x="1041" y="1041"/>
                </a:cubicBezTo>
                <a:cubicBezTo>
                  <a:pt x="1047" y="879"/>
                  <a:pt x="1004" y="706"/>
                  <a:pt x="1152" y="607"/>
                </a:cubicBezTo>
                <a:cubicBezTo>
                  <a:pt x="1170" y="570"/>
                  <a:pt x="1188" y="563"/>
                  <a:pt x="1215" y="536"/>
                </a:cubicBezTo>
                <a:cubicBezTo>
                  <a:pt x="1248" y="503"/>
                  <a:pt x="1270" y="459"/>
                  <a:pt x="1302" y="426"/>
                </a:cubicBezTo>
                <a:cubicBezTo>
                  <a:pt x="1343" y="384"/>
                  <a:pt x="1403" y="342"/>
                  <a:pt x="1459" y="323"/>
                </a:cubicBezTo>
                <a:cubicBezTo>
                  <a:pt x="1515" y="269"/>
                  <a:pt x="1591" y="222"/>
                  <a:pt x="1665" y="197"/>
                </a:cubicBezTo>
                <a:cubicBezTo>
                  <a:pt x="1708" y="167"/>
                  <a:pt x="1755" y="171"/>
                  <a:pt x="1807" y="166"/>
                </a:cubicBezTo>
                <a:cubicBezTo>
                  <a:pt x="1844" y="129"/>
                  <a:pt x="1880" y="100"/>
                  <a:pt x="1917" y="63"/>
                </a:cubicBezTo>
                <a:cubicBezTo>
                  <a:pt x="1927" y="24"/>
                  <a:pt x="1956" y="0"/>
                  <a:pt x="1909" y="16"/>
                </a:cubicBezTo>
                <a:cubicBezTo>
                  <a:pt x="1894" y="60"/>
                  <a:pt x="1858" y="84"/>
                  <a:pt x="1822" y="110"/>
                </a:cubicBezTo>
                <a:cubicBezTo>
                  <a:pt x="1808" y="153"/>
                  <a:pt x="1758" y="162"/>
                  <a:pt x="1720" y="181"/>
                </a:cubicBezTo>
                <a:cubicBezTo>
                  <a:pt x="1673" y="204"/>
                  <a:pt x="1719" y="189"/>
                  <a:pt x="1672" y="221"/>
                </a:cubicBezTo>
                <a:cubicBezTo>
                  <a:pt x="1647" y="238"/>
                  <a:pt x="1605" y="255"/>
                  <a:pt x="1578" y="268"/>
                </a:cubicBezTo>
                <a:cubicBezTo>
                  <a:pt x="1550" y="310"/>
                  <a:pt x="1515" y="339"/>
                  <a:pt x="1467" y="355"/>
                </a:cubicBezTo>
                <a:cubicBezTo>
                  <a:pt x="1427" y="383"/>
                  <a:pt x="1407" y="417"/>
                  <a:pt x="1357" y="434"/>
                </a:cubicBezTo>
                <a:cubicBezTo>
                  <a:pt x="1349" y="444"/>
                  <a:pt x="1342" y="456"/>
                  <a:pt x="1333" y="465"/>
                </a:cubicBezTo>
                <a:cubicBezTo>
                  <a:pt x="1326" y="472"/>
                  <a:pt x="1316" y="474"/>
                  <a:pt x="1310" y="481"/>
                </a:cubicBezTo>
                <a:cubicBezTo>
                  <a:pt x="1305" y="488"/>
                  <a:pt x="1307" y="498"/>
                  <a:pt x="1302" y="505"/>
                </a:cubicBezTo>
                <a:cubicBezTo>
                  <a:pt x="1280" y="538"/>
                  <a:pt x="1251" y="561"/>
                  <a:pt x="1238" y="600"/>
                </a:cubicBezTo>
                <a:cubicBezTo>
                  <a:pt x="1227" y="674"/>
                  <a:pt x="1167" y="797"/>
                  <a:pt x="1112" y="852"/>
                </a:cubicBezTo>
                <a:cubicBezTo>
                  <a:pt x="1098" y="895"/>
                  <a:pt x="1075" y="941"/>
                  <a:pt x="1049" y="978"/>
                </a:cubicBezTo>
                <a:cubicBezTo>
                  <a:pt x="1040" y="1014"/>
                  <a:pt x="1023" y="1027"/>
                  <a:pt x="1002" y="1057"/>
                </a:cubicBezTo>
                <a:cubicBezTo>
                  <a:pt x="986" y="1105"/>
                  <a:pt x="985" y="1155"/>
                  <a:pt x="962" y="1199"/>
                </a:cubicBezTo>
                <a:cubicBezTo>
                  <a:pt x="940" y="1288"/>
                  <a:pt x="940" y="1377"/>
                  <a:pt x="931" y="1468"/>
                </a:cubicBezTo>
                <a:cubicBezTo>
                  <a:pt x="929" y="1484"/>
                  <a:pt x="927" y="1500"/>
                  <a:pt x="923" y="1515"/>
                </a:cubicBezTo>
                <a:cubicBezTo>
                  <a:pt x="919" y="1531"/>
                  <a:pt x="907" y="1562"/>
                  <a:pt x="907" y="1562"/>
                </a:cubicBezTo>
                <a:cubicBezTo>
                  <a:pt x="905" y="1577"/>
                  <a:pt x="899" y="1629"/>
                  <a:pt x="891" y="1649"/>
                </a:cubicBezTo>
                <a:cubicBezTo>
                  <a:pt x="867" y="1708"/>
                  <a:pt x="802" y="1768"/>
                  <a:pt x="741" y="1783"/>
                </a:cubicBezTo>
                <a:cubicBezTo>
                  <a:pt x="706" y="1807"/>
                  <a:pt x="680" y="1842"/>
                  <a:pt x="647" y="1870"/>
                </a:cubicBezTo>
                <a:cubicBezTo>
                  <a:pt x="642" y="1883"/>
                  <a:pt x="637" y="1896"/>
                  <a:pt x="631" y="1909"/>
                </a:cubicBezTo>
                <a:cubicBezTo>
                  <a:pt x="627" y="1918"/>
                  <a:pt x="619" y="1924"/>
                  <a:pt x="615" y="1933"/>
                </a:cubicBezTo>
                <a:cubicBezTo>
                  <a:pt x="591" y="1982"/>
                  <a:pt x="615" y="2000"/>
                  <a:pt x="560" y="2028"/>
                </a:cubicBezTo>
                <a:cubicBezTo>
                  <a:pt x="479" y="2012"/>
                  <a:pt x="484" y="2004"/>
                  <a:pt x="402" y="2020"/>
                </a:cubicBezTo>
                <a:cubicBezTo>
                  <a:pt x="386" y="2023"/>
                  <a:pt x="355" y="2036"/>
                  <a:pt x="355" y="2036"/>
                </a:cubicBezTo>
                <a:cubicBezTo>
                  <a:pt x="331" y="2033"/>
                  <a:pt x="307" y="2036"/>
                  <a:pt x="284" y="2028"/>
                </a:cubicBezTo>
                <a:cubicBezTo>
                  <a:pt x="276" y="2025"/>
                  <a:pt x="299" y="2022"/>
                  <a:pt x="307" y="2020"/>
                </a:cubicBezTo>
                <a:cubicBezTo>
                  <a:pt x="348" y="2010"/>
                  <a:pt x="357" y="2012"/>
                  <a:pt x="402" y="2004"/>
                </a:cubicBezTo>
                <a:cubicBezTo>
                  <a:pt x="485" y="1989"/>
                  <a:pt x="563" y="1960"/>
                  <a:pt x="631" y="1909"/>
                </a:cubicBezTo>
                <a:cubicBezTo>
                  <a:pt x="642" y="1878"/>
                  <a:pt x="664" y="1853"/>
                  <a:pt x="694" y="1838"/>
                </a:cubicBezTo>
                <a:cubicBezTo>
                  <a:pt x="709" y="1831"/>
                  <a:pt x="741" y="1823"/>
                  <a:pt x="741" y="1823"/>
                </a:cubicBezTo>
                <a:cubicBezTo>
                  <a:pt x="761" y="1764"/>
                  <a:pt x="745" y="1787"/>
                  <a:pt x="781" y="1752"/>
                </a:cubicBezTo>
                <a:cubicBezTo>
                  <a:pt x="797" y="1705"/>
                  <a:pt x="817" y="1658"/>
                  <a:pt x="844" y="1617"/>
                </a:cubicBezTo>
                <a:cubicBezTo>
                  <a:pt x="853" y="1563"/>
                  <a:pt x="878" y="1526"/>
                  <a:pt x="899" y="1475"/>
                </a:cubicBezTo>
                <a:cubicBezTo>
                  <a:pt x="905" y="1412"/>
                  <a:pt x="907" y="1353"/>
                  <a:pt x="931" y="1294"/>
                </a:cubicBezTo>
                <a:cubicBezTo>
                  <a:pt x="938" y="1225"/>
                  <a:pt x="945" y="1148"/>
                  <a:pt x="986" y="1089"/>
                </a:cubicBezTo>
                <a:cubicBezTo>
                  <a:pt x="989" y="1073"/>
                  <a:pt x="988" y="1056"/>
                  <a:pt x="994" y="1041"/>
                </a:cubicBezTo>
                <a:cubicBezTo>
                  <a:pt x="999" y="1027"/>
                  <a:pt x="1013" y="1017"/>
                  <a:pt x="1018" y="1002"/>
                </a:cubicBezTo>
                <a:cubicBezTo>
                  <a:pt x="1027" y="974"/>
                  <a:pt x="1022" y="942"/>
                  <a:pt x="1033" y="915"/>
                </a:cubicBezTo>
                <a:cubicBezTo>
                  <a:pt x="1038" y="902"/>
                  <a:pt x="1044" y="889"/>
                  <a:pt x="1049" y="876"/>
                </a:cubicBezTo>
                <a:cubicBezTo>
                  <a:pt x="1054" y="840"/>
                  <a:pt x="1060" y="776"/>
                  <a:pt x="1073" y="742"/>
                </a:cubicBezTo>
                <a:cubicBezTo>
                  <a:pt x="1092" y="694"/>
                  <a:pt x="1138" y="655"/>
                  <a:pt x="1167" y="615"/>
                </a:cubicBezTo>
                <a:cubicBezTo>
                  <a:pt x="1224" y="536"/>
                  <a:pt x="1182" y="569"/>
                  <a:pt x="1231" y="536"/>
                </a:cubicBezTo>
                <a:cubicBezTo>
                  <a:pt x="1249" y="508"/>
                  <a:pt x="1262" y="492"/>
                  <a:pt x="1294" y="481"/>
                </a:cubicBezTo>
                <a:cubicBezTo>
                  <a:pt x="1347" y="428"/>
                  <a:pt x="1320" y="441"/>
                  <a:pt x="1365" y="426"/>
                </a:cubicBezTo>
                <a:cubicBezTo>
                  <a:pt x="1402" y="371"/>
                  <a:pt x="1353" y="436"/>
                  <a:pt x="1420" y="379"/>
                </a:cubicBezTo>
                <a:cubicBezTo>
                  <a:pt x="1427" y="373"/>
                  <a:pt x="1429" y="361"/>
                  <a:pt x="1436" y="355"/>
                </a:cubicBezTo>
                <a:cubicBezTo>
                  <a:pt x="1481" y="315"/>
                  <a:pt x="1522" y="303"/>
                  <a:pt x="1578" y="292"/>
                </a:cubicBezTo>
                <a:cubicBezTo>
                  <a:pt x="1586" y="287"/>
                  <a:pt x="1593" y="280"/>
                  <a:pt x="1601" y="276"/>
                </a:cubicBezTo>
                <a:cubicBezTo>
                  <a:pt x="1609" y="272"/>
                  <a:pt x="1618" y="272"/>
                  <a:pt x="1625" y="268"/>
                </a:cubicBezTo>
                <a:cubicBezTo>
                  <a:pt x="1675" y="238"/>
                  <a:pt x="1722" y="199"/>
                  <a:pt x="1775" y="173"/>
                </a:cubicBezTo>
                <a:cubicBezTo>
                  <a:pt x="1796" y="163"/>
                  <a:pt x="1801" y="170"/>
                  <a:pt x="1822" y="158"/>
                </a:cubicBezTo>
                <a:cubicBezTo>
                  <a:pt x="1869" y="132"/>
                  <a:pt x="1898" y="104"/>
                  <a:pt x="1949" y="87"/>
                </a:cubicBezTo>
                <a:cubicBezTo>
                  <a:pt x="1962" y="74"/>
                  <a:pt x="1976" y="61"/>
                  <a:pt x="1988" y="47"/>
                </a:cubicBezTo>
                <a:cubicBezTo>
                  <a:pt x="1994" y="40"/>
                  <a:pt x="2011" y="31"/>
                  <a:pt x="2004" y="24"/>
                </a:cubicBezTo>
                <a:cubicBezTo>
                  <a:pt x="2000" y="20"/>
                  <a:pt x="1955" y="37"/>
                  <a:pt x="1949" y="39"/>
                </a:cubicBezTo>
                <a:cubicBezTo>
                  <a:pt x="1910" y="91"/>
                  <a:pt x="1870" y="81"/>
                  <a:pt x="1822" y="142"/>
                </a:cubicBezTo>
                <a:cubicBezTo>
                  <a:pt x="1785" y="189"/>
                  <a:pt x="1805" y="172"/>
                  <a:pt x="1767" y="197"/>
                </a:cubicBezTo>
                <a:cubicBezTo>
                  <a:pt x="1737" y="241"/>
                  <a:pt x="1673" y="284"/>
                  <a:pt x="1625" y="308"/>
                </a:cubicBezTo>
                <a:cubicBezTo>
                  <a:pt x="1612" y="324"/>
                  <a:pt x="1596" y="338"/>
                  <a:pt x="1586" y="355"/>
                </a:cubicBezTo>
                <a:cubicBezTo>
                  <a:pt x="1580" y="364"/>
                  <a:pt x="1585" y="379"/>
                  <a:pt x="1578" y="387"/>
                </a:cubicBezTo>
                <a:cubicBezTo>
                  <a:pt x="1567" y="399"/>
                  <a:pt x="1461" y="457"/>
                  <a:pt x="1459" y="458"/>
                </a:cubicBezTo>
                <a:cubicBezTo>
                  <a:pt x="1431" y="477"/>
                  <a:pt x="1414" y="493"/>
                  <a:pt x="1381" y="505"/>
                </a:cubicBezTo>
                <a:cubicBezTo>
                  <a:pt x="1373" y="513"/>
                  <a:pt x="1367" y="524"/>
                  <a:pt x="1357" y="529"/>
                </a:cubicBezTo>
                <a:cubicBezTo>
                  <a:pt x="1337" y="540"/>
                  <a:pt x="1294" y="552"/>
                  <a:pt x="1294" y="552"/>
                </a:cubicBezTo>
                <a:cubicBezTo>
                  <a:pt x="1262" y="599"/>
                  <a:pt x="1297" y="559"/>
                  <a:pt x="1254" y="584"/>
                </a:cubicBezTo>
                <a:cubicBezTo>
                  <a:pt x="1165" y="637"/>
                  <a:pt x="1230" y="613"/>
                  <a:pt x="1175" y="631"/>
                </a:cubicBezTo>
                <a:cubicBezTo>
                  <a:pt x="1159" y="647"/>
                  <a:pt x="1144" y="662"/>
                  <a:pt x="1128" y="678"/>
                </a:cubicBezTo>
                <a:cubicBezTo>
                  <a:pt x="1122" y="684"/>
                  <a:pt x="1124" y="695"/>
                  <a:pt x="1120" y="702"/>
                </a:cubicBezTo>
                <a:cubicBezTo>
                  <a:pt x="1111" y="718"/>
                  <a:pt x="1102" y="736"/>
                  <a:pt x="1089" y="749"/>
                </a:cubicBezTo>
                <a:cubicBezTo>
                  <a:pt x="1066" y="772"/>
                  <a:pt x="1060" y="773"/>
                  <a:pt x="1049" y="805"/>
                </a:cubicBezTo>
                <a:cubicBezTo>
                  <a:pt x="998" y="957"/>
                  <a:pt x="1065" y="780"/>
                  <a:pt x="1025" y="931"/>
                </a:cubicBezTo>
                <a:cubicBezTo>
                  <a:pt x="1023" y="940"/>
                  <a:pt x="998" y="970"/>
                  <a:pt x="994" y="978"/>
                </a:cubicBezTo>
                <a:cubicBezTo>
                  <a:pt x="962" y="1041"/>
                  <a:pt x="950" y="1106"/>
                  <a:pt x="915" y="1168"/>
                </a:cubicBezTo>
                <a:cubicBezTo>
                  <a:pt x="900" y="1228"/>
                  <a:pt x="881" y="1288"/>
                  <a:pt x="868" y="1349"/>
                </a:cubicBezTo>
                <a:cubicBezTo>
                  <a:pt x="856" y="1404"/>
                  <a:pt x="858" y="1432"/>
                  <a:pt x="828" y="1475"/>
                </a:cubicBezTo>
                <a:cubicBezTo>
                  <a:pt x="813" y="1519"/>
                  <a:pt x="830" y="1480"/>
                  <a:pt x="797" y="1523"/>
                </a:cubicBezTo>
                <a:cubicBezTo>
                  <a:pt x="785" y="1538"/>
                  <a:pt x="765" y="1570"/>
                  <a:pt x="765" y="1570"/>
                </a:cubicBezTo>
                <a:cubicBezTo>
                  <a:pt x="751" y="1627"/>
                  <a:pt x="768" y="1580"/>
                  <a:pt x="726" y="1633"/>
                </a:cubicBezTo>
                <a:cubicBezTo>
                  <a:pt x="697" y="1669"/>
                  <a:pt x="696" y="1698"/>
                  <a:pt x="655" y="1712"/>
                </a:cubicBezTo>
                <a:cubicBezTo>
                  <a:pt x="621" y="1746"/>
                  <a:pt x="609" y="1770"/>
                  <a:pt x="560" y="1783"/>
                </a:cubicBezTo>
                <a:cubicBezTo>
                  <a:pt x="535" y="1817"/>
                  <a:pt x="503" y="1867"/>
                  <a:pt x="465" y="1886"/>
                </a:cubicBezTo>
                <a:cubicBezTo>
                  <a:pt x="438" y="1900"/>
                  <a:pt x="406" y="1900"/>
                  <a:pt x="378" y="1909"/>
                </a:cubicBezTo>
                <a:cubicBezTo>
                  <a:pt x="369" y="1949"/>
                  <a:pt x="381" y="1941"/>
                  <a:pt x="339" y="1949"/>
                </a:cubicBezTo>
                <a:cubicBezTo>
                  <a:pt x="321" y="1952"/>
                  <a:pt x="284" y="1957"/>
                  <a:pt x="284" y="1957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5400" y="1744560"/>
            <a:ext cx="2530440" cy="5126040"/>
          </a:xfrm>
          <a:custGeom>
            <a:avLst/>
            <a:gdLst/>
            <a:ahLst/>
            <a:rect l="l" t="t" r="r" b="b"/>
            <a:pathLst>
              <a:path w="1594" h="3229">
                <a:moveTo>
                  <a:pt x="1183" y="3020"/>
                </a:moveTo>
                <a:cubicBezTo>
                  <a:pt x="1156" y="2979"/>
                  <a:pt x="1140" y="2934"/>
                  <a:pt x="1112" y="2894"/>
                </a:cubicBezTo>
                <a:cubicBezTo>
                  <a:pt x="1102" y="2864"/>
                  <a:pt x="1071" y="2821"/>
                  <a:pt x="1049" y="2799"/>
                </a:cubicBezTo>
                <a:cubicBezTo>
                  <a:pt x="1034" y="2753"/>
                  <a:pt x="1005" y="2707"/>
                  <a:pt x="970" y="2673"/>
                </a:cubicBezTo>
                <a:cubicBezTo>
                  <a:pt x="953" y="2622"/>
                  <a:pt x="928" y="2605"/>
                  <a:pt x="899" y="2562"/>
                </a:cubicBezTo>
                <a:cubicBezTo>
                  <a:pt x="907" y="2507"/>
                  <a:pt x="918" y="2456"/>
                  <a:pt x="939" y="2404"/>
                </a:cubicBezTo>
                <a:cubicBezTo>
                  <a:pt x="934" y="2380"/>
                  <a:pt x="932" y="2355"/>
                  <a:pt x="923" y="2333"/>
                </a:cubicBezTo>
                <a:cubicBezTo>
                  <a:pt x="919" y="2323"/>
                  <a:pt x="906" y="2319"/>
                  <a:pt x="899" y="2310"/>
                </a:cubicBezTo>
                <a:cubicBezTo>
                  <a:pt x="867" y="2266"/>
                  <a:pt x="894" y="2235"/>
                  <a:pt x="812" y="2207"/>
                </a:cubicBezTo>
                <a:cubicBezTo>
                  <a:pt x="788" y="2199"/>
                  <a:pt x="786" y="2200"/>
                  <a:pt x="765" y="2183"/>
                </a:cubicBezTo>
                <a:cubicBezTo>
                  <a:pt x="737" y="2160"/>
                  <a:pt x="734" y="2129"/>
                  <a:pt x="710" y="2105"/>
                </a:cubicBezTo>
                <a:cubicBezTo>
                  <a:pt x="667" y="2062"/>
                  <a:pt x="615" y="2039"/>
                  <a:pt x="568" y="2002"/>
                </a:cubicBezTo>
                <a:cubicBezTo>
                  <a:pt x="549" y="1945"/>
                  <a:pt x="576" y="2014"/>
                  <a:pt x="536" y="1955"/>
                </a:cubicBezTo>
                <a:cubicBezTo>
                  <a:pt x="531" y="1948"/>
                  <a:pt x="532" y="1938"/>
                  <a:pt x="528" y="1931"/>
                </a:cubicBezTo>
                <a:cubicBezTo>
                  <a:pt x="511" y="1901"/>
                  <a:pt x="493" y="1871"/>
                  <a:pt x="465" y="1852"/>
                </a:cubicBezTo>
                <a:cubicBezTo>
                  <a:pt x="425" y="1793"/>
                  <a:pt x="370" y="1784"/>
                  <a:pt x="307" y="1757"/>
                </a:cubicBezTo>
                <a:cubicBezTo>
                  <a:pt x="282" y="1746"/>
                  <a:pt x="236" y="1718"/>
                  <a:pt x="236" y="1718"/>
                </a:cubicBezTo>
                <a:cubicBezTo>
                  <a:pt x="195" y="1652"/>
                  <a:pt x="267" y="1707"/>
                  <a:pt x="284" y="1718"/>
                </a:cubicBezTo>
                <a:cubicBezTo>
                  <a:pt x="298" y="1771"/>
                  <a:pt x="335" y="1810"/>
                  <a:pt x="378" y="1844"/>
                </a:cubicBezTo>
                <a:cubicBezTo>
                  <a:pt x="381" y="1855"/>
                  <a:pt x="380" y="1867"/>
                  <a:pt x="386" y="1876"/>
                </a:cubicBezTo>
                <a:cubicBezTo>
                  <a:pt x="391" y="1884"/>
                  <a:pt x="403" y="1885"/>
                  <a:pt x="410" y="1891"/>
                </a:cubicBezTo>
                <a:cubicBezTo>
                  <a:pt x="441" y="1916"/>
                  <a:pt x="471" y="1941"/>
                  <a:pt x="505" y="1962"/>
                </a:cubicBezTo>
                <a:cubicBezTo>
                  <a:pt x="514" y="1968"/>
                  <a:pt x="518" y="1981"/>
                  <a:pt x="528" y="1986"/>
                </a:cubicBezTo>
                <a:cubicBezTo>
                  <a:pt x="543" y="1994"/>
                  <a:pt x="576" y="2002"/>
                  <a:pt x="576" y="2002"/>
                </a:cubicBezTo>
                <a:cubicBezTo>
                  <a:pt x="586" y="2018"/>
                  <a:pt x="597" y="2053"/>
                  <a:pt x="623" y="2010"/>
                </a:cubicBezTo>
                <a:cubicBezTo>
                  <a:pt x="627" y="2003"/>
                  <a:pt x="617" y="1994"/>
                  <a:pt x="615" y="1986"/>
                </a:cubicBezTo>
                <a:cubicBezTo>
                  <a:pt x="601" y="1932"/>
                  <a:pt x="617" y="1962"/>
                  <a:pt x="591" y="1923"/>
                </a:cubicBezTo>
                <a:cubicBezTo>
                  <a:pt x="509" y="1952"/>
                  <a:pt x="602" y="2064"/>
                  <a:pt x="639" y="2089"/>
                </a:cubicBezTo>
                <a:cubicBezTo>
                  <a:pt x="656" y="2112"/>
                  <a:pt x="689" y="2163"/>
                  <a:pt x="718" y="2183"/>
                </a:cubicBezTo>
                <a:cubicBezTo>
                  <a:pt x="758" y="2211"/>
                  <a:pt x="797" y="2221"/>
                  <a:pt x="836" y="2247"/>
                </a:cubicBezTo>
                <a:cubicBezTo>
                  <a:pt x="862" y="2285"/>
                  <a:pt x="875" y="2323"/>
                  <a:pt x="915" y="2349"/>
                </a:cubicBezTo>
                <a:cubicBezTo>
                  <a:pt x="926" y="2378"/>
                  <a:pt x="926" y="2414"/>
                  <a:pt x="947" y="2436"/>
                </a:cubicBezTo>
                <a:cubicBezTo>
                  <a:pt x="978" y="2468"/>
                  <a:pt x="965" y="2450"/>
                  <a:pt x="986" y="2491"/>
                </a:cubicBezTo>
                <a:cubicBezTo>
                  <a:pt x="997" y="2534"/>
                  <a:pt x="994" y="2586"/>
                  <a:pt x="1025" y="2617"/>
                </a:cubicBezTo>
                <a:cubicBezTo>
                  <a:pt x="1041" y="2633"/>
                  <a:pt x="1065" y="2641"/>
                  <a:pt x="1081" y="2657"/>
                </a:cubicBezTo>
                <a:cubicBezTo>
                  <a:pt x="1098" y="2707"/>
                  <a:pt x="1103" y="2747"/>
                  <a:pt x="1136" y="2791"/>
                </a:cubicBezTo>
                <a:cubicBezTo>
                  <a:pt x="1152" y="2884"/>
                  <a:pt x="1169" y="2986"/>
                  <a:pt x="1199" y="3075"/>
                </a:cubicBezTo>
                <a:cubicBezTo>
                  <a:pt x="1209" y="3104"/>
                  <a:pt x="1224" y="3122"/>
                  <a:pt x="1231" y="3154"/>
                </a:cubicBezTo>
                <a:cubicBezTo>
                  <a:pt x="1234" y="3167"/>
                  <a:pt x="1238" y="3206"/>
                  <a:pt x="1238" y="3193"/>
                </a:cubicBezTo>
                <a:cubicBezTo>
                  <a:pt x="1238" y="3130"/>
                  <a:pt x="1232" y="3066"/>
                  <a:pt x="1199" y="3012"/>
                </a:cubicBezTo>
                <a:cubicBezTo>
                  <a:pt x="1188" y="2934"/>
                  <a:pt x="1172" y="2862"/>
                  <a:pt x="1136" y="2791"/>
                </a:cubicBezTo>
                <a:cubicBezTo>
                  <a:pt x="1133" y="2773"/>
                  <a:pt x="1136" y="2753"/>
                  <a:pt x="1128" y="2736"/>
                </a:cubicBezTo>
                <a:cubicBezTo>
                  <a:pt x="1124" y="2727"/>
                  <a:pt x="1110" y="2728"/>
                  <a:pt x="1104" y="2720"/>
                </a:cubicBezTo>
                <a:cubicBezTo>
                  <a:pt x="1086" y="2698"/>
                  <a:pt x="1083" y="2667"/>
                  <a:pt x="1073" y="2641"/>
                </a:cubicBezTo>
                <a:cubicBezTo>
                  <a:pt x="1048" y="2577"/>
                  <a:pt x="1029" y="2500"/>
                  <a:pt x="986" y="2444"/>
                </a:cubicBezTo>
                <a:cubicBezTo>
                  <a:pt x="941" y="2385"/>
                  <a:pt x="882" y="2338"/>
                  <a:pt x="836" y="2278"/>
                </a:cubicBezTo>
                <a:cubicBezTo>
                  <a:pt x="800" y="2231"/>
                  <a:pt x="755" y="2220"/>
                  <a:pt x="710" y="2183"/>
                </a:cubicBezTo>
                <a:cubicBezTo>
                  <a:pt x="687" y="2164"/>
                  <a:pt x="639" y="2128"/>
                  <a:pt x="639" y="2128"/>
                </a:cubicBezTo>
                <a:cubicBezTo>
                  <a:pt x="588" y="2044"/>
                  <a:pt x="645" y="2127"/>
                  <a:pt x="584" y="2065"/>
                </a:cubicBezTo>
                <a:cubicBezTo>
                  <a:pt x="502" y="1982"/>
                  <a:pt x="623" y="2095"/>
                  <a:pt x="560" y="2018"/>
                </a:cubicBezTo>
                <a:cubicBezTo>
                  <a:pt x="554" y="2011"/>
                  <a:pt x="543" y="2008"/>
                  <a:pt x="536" y="2002"/>
                </a:cubicBezTo>
                <a:cubicBezTo>
                  <a:pt x="453" y="1932"/>
                  <a:pt x="564" y="2020"/>
                  <a:pt x="497" y="1955"/>
                </a:cubicBezTo>
                <a:cubicBezTo>
                  <a:pt x="490" y="1948"/>
                  <a:pt x="480" y="1945"/>
                  <a:pt x="473" y="1939"/>
                </a:cubicBezTo>
                <a:cubicBezTo>
                  <a:pt x="464" y="1932"/>
                  <a:pt x="457" y="1923"/>
                  <a:pt x="449" y="1915"/>
                </a:cubicBezTo>
                <a:cubicBezTo>
                  <a:pt x="434" y="1849"/>
                  <a:pt x="458" y="1916"/>
                  <a:pt x="410" y="1868"/>
                </a:cubicBezTo>
                <a:cubicBezTo>
                  <a:pt x="387" y="1845"/>
                  <a:pt x="383" y="1811"/>
                  <a:pt x="355" y="1789"/>
                </a:cubicBezTo>
                <a:cubicBezTo>
                  <a:pt x="340" y="1777"/>
                  <a:pt x="307" y="1757"/>
                  <a:pt x="307" y="1757"/>
                </a:cubicBezTo>
                <a:cubicBezTo>
                  <a:pt x="297" y="1741"/>
                  <a:pt x="286" y="1726"/>
                  <a:pt x="276" y="1710"/>
                </a:cubicBezTo>
                <a:cubicBezTo>
                  <a:pt x="271" y="1702"/>
                  <a:pt x="296" y="1619"/>
                  <a:pt x="300" y="1615"/>
                </a:cubicBezTo>
                <a:cubicBezTo>
                  <a:pt x="329" y="1586"/>
                  <a:pt x="351" y="1552"/>
                  <a:pt x="378" y="1521"/>
                </a:cubicBezTo>
                <a:cubicBezTo>
                  <a:pt x="390" y="1507"/>
                  <a:pt x="404" y="1493"/>
                  <a:pt x="418" y="1481"/>
                </a:cubicBezTo>
                <a:cubicBezTo>
                  <a:pt x="425" y="1475"/>
                  <a:pt x="435" y="1472"/>
                  <a:pt x="442" y="1465"/>
                </a:cubicBezTo>
                <a:cubicBezTo>
                  <a:pt x="464" y="1443"/>
                  <a:pt x="483" y="1416"/>
                  <a:pt x="505" y="1394"/>
                </a:cubicBezTo>
                <a:cubicBezTo>
                  <a:pt x="518" y="1331"/>
                  <a:pt x="547" y="1211"/>
                  <a:pt x="584" y="1158"/>
                </a:cubicBezTo>
                <a:cubicBezTo>
                  <a:pt x="606" y="1128"/>
                  <a:pt x="634" y="1103"/>
                  <a:pt x="655" y="1071"/>
                </a:cubicBezTo>
                <a:cubicBezTo>
                  <a:pt x="671" y="1015"/>
                  <a:pt x="650" y="1080"/>
                  <a:pt x="678" y="1024"/>
                </a:cubicBezTo>
                <a:cubicBezTo>
                  <a:pt x="695" y="991"/>
                  <a:pt x="696" y="952"/>
                  <a:pt x="718" y="921"/>
                </a:cubicBezTo>
                <a:cubicBezTo>
                  <a:pt x="742" y="887"/>
                  <a:pt x="778" y="859"/>
                  <a:pt x="804" y="826"/>
                </a:cubicBezTo>
                <a:cubicBezTo>
                  <a:pt x="834" y="787"/>
                  <a:pt x="833" y="751"/>
                  <a:pt x="876" y="708"/>
                </a:cubicBezTo>
                <a:cubicBezTo>
                  <a:pt x="898" y="634"/>
                  <a:pt x="865" y="737"/>
                  <a:pt x="899" y="661"/>
                </a:cubicBezTo>
                <a:cubicBezTo>
                  <a:pt x="937" y="577"/>
                  <a:pt x="895" y="642"/>
                  <a:pt x="931" y="590"/>
                </a:cubicBezTo>
                <a:cubicBezTo>
                  <a:pt x="954" y="522"/>
                  <a:pt x="1000" y="464"/>
                  <a:pt x="1073" y="448"/>
                </a:cubicBezTo>
                <a:cubicBezTo>
                  <a:pt x="1118" y="417"/>
                  <a:pt x="1107" y="410"/>
                  <a:pt x="1167" y="400"/>
                </a:cubicBezTo>
                <a:cubicBezTo>
                  <a:pt x="1186" y="391"/>
                  <a:pt x="1232" y="372"/>
                  <a:pt x="1254" y="353"/>
                </a:cubicBezTo>
                <a:cubicBezTo>
                  <a:pt x="1323" y="291"/>
                  <a:pt x="1274" y="316"/>
                  <a:pt x="1341" y="290"/>
                </a:cubicBezTo>
                <a:cubicBezTo>
                  <a:pt x="1392" y="213"/>
                  <a:pt x="1422" y="156"/>
                  <a:pt x="1499" y="100"/>
                </a:cubicBezTo>
                <a:cubicBezTo>
                  <a:pt x="1504" y="87"/>
                  <a:pt x="1507" y="72"/>
                  <a:pt x="1515" y="61"/>
                </a:cubicBezTo>
                <a:cubicBezTo>
                  <a:pt x="1558" y="0"/>
                  <a:pt x="1523" y="90"/>
                  <a:pt x="1546" y="21"/>
                </a:cubicBezTo>
                <a:cubicBezTo>
                  <a:pt x="1493" y="5"/>
                  <a:pt x="1512" y="35"/>
                  <a:pt x="1491" y="61"/>
                </a:cubicBezTo>
                <a:cubicBezTo>
                  <a:pt x="1485" y="69"/>
                  <a:pt x="1475" y="72"/>
                  <a:pt x="1467" y="77"/>
                </a:cubicBezTo>
                <a:cubicBezTo>
                  <a:pt x="1429" y="155"/>
                  <a:pt x="1478" y="64"/>
                  <a:pt x="1428" y="132"/>
                </a:cubicBezTo>
                <a:cubicBezTo>
                  <a:pt x="1421" y="141"/>
                  <a:pt x="1420" y="155"/>
                  <a:pt x="1412" y="163"/>
                </a:cubicBezTo>
                <a:cubicBezTo>
                  <a:pt x="1399" y="176"/>
                  <a:pt x="1365" y="195"/>
                  <a:pt x="1365" y="195"/>
                </a:cubicBezTo>
                <a:cubicBezTo>
                  <a:pt x="1354" y="211"/>
                  <a:pt x="1344" y="226"/>
                  <a:pt x="1333" y="242"/>
                </a:cubicBezTo>
                <a:cubicBezTo>
                  <a:pt x="1312" y="272"/>
                  <a:pt x="1262" y="291"/>
                  <a:pt x="1238" y="321"/>
                </a:cubicBezTo>
                <a:cubicBezTo>
                  <a:pt x="1211" y="355"/>
                  <a:pt x="1216" y="378"/>
                  <a:pt x="1175" y="392"/>
                </a:cubicBezTo>
                <a:cubicBezTo>
                  <a:pt x="1125" y="463"/>
                  <a:pt x="1152" y="432"/>
                  <a:pt x="1096" y="487"/>
                </a:cubicBezTo>
                <a:cubicBezTo>
                  <a:pt x="1089" y="521"/>
                  <a:pt x="1037" y="594"/>
                  <a:pt x="1018" y="613"/>
                </a:cubicBezTo>
                <a:cubicBezTo>
                  <a:pt x="1002" y="629"/>
                  <a:pt x="970" y="661"/>
                  <a:pt x="970" y="661"/>
                </a:cubicBezTo>
                <a:cubicBezTo>
                  <a:pt x="956" y="701"/>
                  <a:pt x="918" y="740"/>
                  <a:pt x="883" y="763"/>
                </a:cubicBezTo>
                <a:cubicBezTo>
                  <a:pt x="870" y="807"/>
                  <a:pt x="832" y="862"/>
                  <a:pt x="804" y="897"/>
                </a:cubicBezTo>
                <a:cubicBezTo>
                  <a:pt x="782" y="925"/>
                  <a:pt x="741" y="984"/>
                  <a:pt x="741" y="984"/>
                </a:cubicBezTo>
                <a:cubicBezTo>
                  <a:pt x="730" y="1017"/>
                  <a:pt x="706" y="1034"/>
                  <a:pt x="686" y="1063"/>
                </a:cubicBezTo>
                <a:cubicBezTo>
                  <a:pt x="659" y="1102"/>
                  <a:pt x="641" y="1140"/>
                  <a:pt x="607" y="1173"/>
                </a:cubicBezTo>
                <a:cubicBezTo>
                  <a:pt x="566" y="1277"/>
                  <a:pt x="618" y="1155"/>
                  <a:pt x="568" y="1244"/>
                </a:cubicBezTo>
                <a:cubicBezTo>
                  <a:pt x="562" y="1254"/>
                  <a:pt x="554" y="1292"/>
                  <a:pt x="552" y="1300"/>
                </a:cubicBezTo>
                <a:cubicBezTo>
                  <a:pt x="539" y="1344"/>
                  <a:pt x="550" y="1302"/>
                  <a:pt x="528" y="1347"/>
                </a:cubicBezTo>
                <a:cubicBezTo>
                  <a:pt x="508" y="1388"/>
                  <a:pt x="504" y="1424"/>
                  <a:pt x="465" y="1450"/>
                </a:cubicBezTo>
                <a:cubicBezTo>
                  <a:pt x="457" y="1463"/>
                  <a:pt x="450" y="1476"/>
                  <a:pt x="442" y="1489"/>
                </a:cubicBezTo>
                <a:cubicBezTo>
                  <a:pt x="429" y="1508"/>
                  <a:pt x="414" y="1525"/>
                  <a:pt x="402" y="1544"/>
                </a:cubicBezTo>
                <a:cubicBezTo>
                  <a:pt x="385" y="1572"/>
                  <a:pt x="386" y="1603"/>
                  <a:pt x="355" y="1623"/>
                </a:cubicBezTo>
                <a:cubicBezTo>
                  <a:pt x="316" y="1648"/>
                  <a:pt x="268" y="1668"/>
                  <a:pt x="228" y="1694"/>
                </a:cubicBezTo>
                <a:cubicBezTo>
                  <a:pt x="242" y="1735"/>
                  <a:pt x="259" y="1751"/>
                  <a:pt x="300" y="1765"/>
                </a:cubicBezTo>
                <a:cubicBezTo>
                  <a:pt x="345" y="1837"/>
                  <a:pt x="410" y="1898"/>
                  <a:pt x="457" y="1970"/>
                </a:cubicBezTo>
                <a:cubicBezTo>
                  <a:pt x="479" y="2003"/>
                  <a:pt x="496" y="2038"/>
                  <a:pt x="513" y="2073"/>
                </a:cubicBezTo>
                <a:cubicBezTo>
                  <a:pt x="518" y="2083"/>
                  <a:pt x="522" y="2111"/>
                  <a:pt x="528" y="2120"/>
                </a:cubicBezTo>
                <a:cubicBezTo>
                  <a:pt x="589" y="2210"/>
                  <a:pt x="517" y="2074"/>
                  <a:pt x="568" y="2176"/>
                </a:cubicBezTo>
                <a:cubicBezTo>
                  <a:pt x="571" y="2192"/>
                  <a:pt x="570" y="2208"/>
                  <a:pt x="576" y="2223"/>
                </a:cubicBezTo>
                <a:cubicBezTo>
                  <a:pt x="586" y="2248"/>
                  <a:pt x="620" y="2272"/>
                  <a:pt x="639" y="2286"/>
                </a:cubicBezTo>
                <a:cubicBezTo>
                  <a:pt x="715" y="2342"/>
                  <a:pt x="807" y="2355"/>
                  <a:pt x="891" y="2396"/>
                </a:cubicBezTo>
                <a:cubicBezTo>
                  <a:pt x="916" y="2434"/>
                  <a:pt x="933" y="2468"/>
                  <a:pt x="978" y="2483"/>
                </a:cubicBezTo>
                <a:cubicBezTo>
                  <a:pt x="1020" y="2525"/>
                  <a:pt x="1008" y="2547"/>
                  <a:pt x="1033" y="2586"/>
                </a:cubicBezTo>
                <a:cubicBezTo>
                  <a:pt x="1064" y="2634"/>
                  <a:pt x="1118" y="2669"/>
                  <a:pt x="1144" y="2720"/>
                </a:cubicBezTo>
                <a:cubicBezTo>
                  <a:pt x="1155" y="2743"/>
                  <a:pt x="1163" y="2769"/>
                  <a:pt x="1175" y="2791"/>
                </a:cubicBezTo>
                <a:cubicBezTo>
                  <a:pt x="1184" y="2808"/>
                  <a:pt x="1207" y="2838"/>
                  <a:pt x="1207" y="2838"/>
                </a:cubicBezTo>
                <a:cubicBezTo>
                  <a:pt x="1221" y="2881"/>
                  <a:pt x="1247" y="2911"/>
                  <a:pt x="1262" y="2957"/>
                </a:cubicBezTo>
                <a:cubicBezTo>
                  <a:pt x="1267" y="2973"/>
                  <a:pt x="1278" y="3004"/>
                  <a:pt x="1278" y="3004"/>
                </a:cubicBezTo>
                <a:cubicBezTo>
                  <a:pt x="1281" y="3030"/>
                  <a:pt x="1282" y="3057"/>
                  <a:pt x="1286" y="3083"/>
                </a:cubicBezTo>
                <a:cubicBezTo>
                  <a:pt x="1290" y="3115"/>
                  <a:pt x="1305" y="3210"/>
                  <a:pt x="1302" y="3178"/>
                </a:cubicBezTo>
                <a:cubicBezTo>
                  <a:pt x="1299" y="3152"/>
                  <a:pt x="1297" y="3125"/>
                  <a:pt x="1294" y="3099"/>
                </a:cubicBezTo>
                <a:cubicBezTo>
                  <a:pt x="1286" y="3030"/>
                  <a:pt x="1268" y="2960"/>
                  <a:pt x="1231" y="2901"/>
                </a:cubicBezTo>
                <a:cubicBezTo>
                  <a:pt x="1221" y="2841"/>
                  <a:pt x="1187" y="2793"/>
                  <a:pt x="1136" y="2759"/>
                </a:cubicBezTo>
                <a:cubicBezTo>
                  <a:pt x="1126" y="2740"/>
                  <a:pt x="1111" y="2724"/>
                  <a:pt x="1104" y="2704"/>
                </a:cubicBezTo>
                <a:cubicBezTo>
                  <a:pt x="1087" y="2653"/>
                  <a:pt x="1089" y="2635"/>
                  <a:pt x="1057" y="2586"/>
                </a:cubicBezTo>
                <a:cubicBezTo>
                  <a:pt x="1038" y="2556"/>
                  <a:pt x="994" y="2499"/>
                  <a:pt x="994" y="2499"/>
                </a:cubicBezTo>
                <a:cubicBezTo>
                  <a:pt x="977" y="2448"/>
                  <a:pt x="999" y="2503"/>
                  <a:pt x="962" y="2452"/>
                </a:cubicBezTo>
                <a:cubicBezTo>
                  <a:pt x="939" y="2421"/>
                  <a:pt x="928" y="2381"/>
                  <a:pt x="899" y="2357"/>
                </a:cubicBezTo>
                <a:cubicBezTo>
                  <a:pt x="883" y="2344"/>
                  <a:pt x="866" y="2333"/>
                  <a:pt x="852" y="2318"/>
                </a:cubicBezTo>
                <a:cubicBezTo>
                  <a:pt x="809" y="2270"/>
                  <a:pt x="785" y="2205"/>
                  <a:pt x="733" y="2168"/>
                </a:cubicBezTo>
                <a:cubicBezTo>
                  <a:pt x="698" y="2093"/>
                  <a:pt x="746" y="2183"/>
                  <a:pt x="678" y="2105"/>
                </a:cubicBezTo>
                <a:cubicBezTo>
                  <a:pt x="672" y="2099"/>
                  <a:pt x="675" y="2088"/>
                  <a:pt x="670" y="2081"/>
                </a:cubicBezTo>
                <a:cubicBezTo>
                  <a:pt x="662" y="2071"/>
                  <a:pt x="649" y="2065"/>
                  <a:pt x="639" y="2057"/>
                </a:cubicBezTo>
                <a:cubicBezTo>
                  <a:pt x="595" y="1986"/>
                  <a:pt x="543" y="1915"/>
                  <a:pt x="473" y="1868"/>
                </a:cubicBezTo>
                <a:cubicBezTo>
                  <a:pt x="454" y="1839"/>
                  <a:pt x="436" y="1834"/>
                  <a:pt x="410" y="1813"/>
                </a:cubicBezTo>
                <a:cubicBezTo>
                  <a:pt x="372" y="1782"/>
                  <a:pt x="355" y="1769"/>
                  <a:pt x="307" y="1757"/>
                </a:cubicBezTo>
                <a:cubicBezTo>
                  <a:pt x="281" y="1731"/>
                  <a:pt x="264" y="1706"/>
                  <a:pt x="252" y="1671"/>
                </a:cubicBezTo>
                <a:cubicBezTo>
                  <a:pt x="277" y="1570"/>
                  <a:pt x="285" y="1592"/>
                  <a:pt x="363" y="1513"/>
                </a:cubicBezTo>
                <a:cubicBezTo>
                  <a:pt x="376" y="1500"/>
                  <a:pt x="402" y="1473"/>
                  <a:pt x="402" y="1473"/>
                </a:cubicBezTo>
                <a:cubicBezTo>
                  <a:pt x="416" y="1432"/>
                  <a:pt x="457" y="1416"/>
                  <a:pt x="481" y="1379"/>
                </a:cubicBezTo>
                <a:cubicBezTo>
                  <a:pt x="533" y="1298"/>
                  <a:pt x="478" y="1358"/>
                  <a:pt x="528" y="1308"/>
                </a:cubicBezTo>
                <a:cubicBezTo>
                  <a:pt x="549" y="1225"/>
                  <a:pt x="516" y="1348"/>
                  <a:pt x="568" y="1205"/>
                </a:cubicBezTo>
                <a:cubicBezTo>
                  <a:pt x="588" y="1149"/>
                  <a:pt x="570" y="1125"/>
                  <a:pt x="623" y="1087"/>
                </a:cubicBezTo>
                <a:cubicBezTo>
                  <a:pt x="638" y="1042"/>
                  <a:pt x="671" y="994"/>
                  <a:pt x="710" y="968"/>
                </a:cubicBezTo>
                <a:cubicBezTo>
                  <a:pt x="718" y="958"/>
                  <a:pt x="724" y="947"/>
                  <a:pt x="733" y="937"/>
                </a:cubicBezTo>
                <a:cubicBezTo>
                  <a:pt x="751" y="917"/>
                  <a:pt x="789" y="881"/>
                  <a:pt x="789" y="881"/>
                </a:cubicBezTo>
                <a:cubicBezTo>
                  <a:pt x="800" y="840"/>
                  <a:pt x="830" y="801"/>
                  <a:pt x="860" y="771"/>
                </a:cubicBezTo>
                <a:cubicBezTo>
                  <a:pt x="900" y="690"/>
                  <a:pt x="936" y="666"/>
                  <a:pt x="1018" y="629"/>
                </a:cubicBezTo>
                <a:cubicBezTo>
                  <a:pt x="1026" y="618"/>
                  <a:pt x="1031" y="606"/>
                  <a:pt x="1041" y="597"/>
                </a:cubicBezTo>
                <a:cubicBezTo>
                  <a:pt x="1050" y="589"/>
                  <a:pt x="1065" y="591"/>
                  <a:pt x="1073" y="582"/>
                </a:cubicBezTo>
                <a:cubicBezTo>
                  <a:pt x="1101" y="551"/>
                  <a:pt x="1110" y="503"/>
                  <a:pt x="1144" y="479"/>
                </a:cubicBezTo>
                <a:cubicBezTo>
                  <a:pt x="1173" y="459"/>
                  <a:pt x="1205" y="438"/>
                  <a:pt x="1223" y="408"/>
                </a:cubicBezTo>
                <a:cubicBezTo>
                  <a:pt x="1259" y="347"/>
                  <a:pt x="1309" y="279"/>
                  <a:pt x="1365" y="234"/>
                </a:cubicBezTo>
                <a:cubicBezTo>
                  <a:pt x="1378" y="224"/>
                  <a:pt x="1390" y="212"/>
                  <a:pt x="1404" y="203"/>
                </a:cubicBezTo>
                <a:cubicBezTo>
                  <a:pt x="1439" y="182"/>
                  <a:pt x="1481" y="172"/>
                  <a:pt x="1515" y="148"/>
                </a:cubicBezTo>
                <a:cubicBezTo>
                  <a:pt x="1522" y="143"/>
                  <a:pt x="1562" y="117"/>
                  <a:pt x="1562" y="108"/>
                </a:cubicBezTo>
                <a:cubicBezTo>
                  <a:pt x="1562" y="100"/>
                  <a:pt x="1546" y="113"/>
                  <a:pt x="1538" y="116"/>
                </a:cubicBezTo>
                <a:cubicBezTo>
                  <a:pt x="1511" y="144"/>
                  <a:pt x="1493" y="145"/>
                  <a:pt x="1459" y="163"/>
                </a:cubicBezTo>
                <a:cubicBezTo>
                  <a:pt x="1440" y="173"/>
                  <a:pt x="1423" y="185"/>
                  <a:pt x="1404" y="195"/>
                </a:cubicBezTo>
                <a:cubicBezTo>
                  <a:pt x="1355" y="220"/>
                  <a:pt x="1290" y="219"/>
                  <a:pt x="1238" y="234"/>
                </a:cubicBezTo>
                <a:cubicBezTo>
                  <a:pt x="1185" y="289"/>
                  <a:pt x="1131" y="345"/>
                  <a:pt x="1065" y="384"/>
                </a:cubicBezTo>
                <a:cubicBezTo>
                  <a:pt x="1009" y="468"/>
                  <a:pt x="1114" y="314"/>
                  <a:pt x="1010" y="448"/>
                </a:cubicBezTo>
                <a:cubicBezTo>
                  <a:pt x="970" y="500"/>
                  <a:pt x="932" y="567"/>
                  <a:pt x="899" y="621"/>
                </a:cubicBezTo>
                <a:cubicBezTo>
                  <a:pt x="891" y="689"/>
                  <a:pt x="892" y="723"/>
                  <a:pt x="844" y="771"/>
                </a:cubicBezTo>
                <a:cubicBezTo>
                  <a:pt x="835" y="798"/>
                  <a:pt x="819" y="822"/>
                  <a:pt x="812" y="850"/>
                </a:cubicBezTo>
                <a:cubicBezTo>
                  <a:pt x="803" y="886"/>
                  <a:pt x="805" y="901"/>
                  <a:pt x="789" y="937"/>
                </a:cubicBezTo>
                <a:cubicBezTo>
                  <a:pt x="729" y="1072"/>
                  <a:pt x="798" y="883"/>
                  <a:pt x="749" y="1016"/>
                </a:cubicBezTo>
                <a:cubicBezTo>
                  <a:pt x="732" y="1062"/>
                  <a:pt x="721" y="1116"/>
                  <a:pt x="694" y="1158"/>
                </a:cubicBezTo>
                <a:cubicBezTo>
                  <a:pt x="687" y="1169"/>
                  <a:pt x="676" y="1178"/>
                  <a:pt x="670" y="1189"/>
                </a:cubicBezTo>
                <a:cubicBezTo>
                  <a:pt x="598" y="1321"/>
                  <a:pt x="680" y="1194"/>
                  <a:pt x="631" y="1268"/>
                </a:cubicBezTo>
                <a:cubicBezTo>
                  <a:pt x="622" y="1323"/>
                  <a:pt x="594" y="1353"/>
                  <a:pt x="584" y="1410"/>
                </a:cubicBezTo>
                <a:cubicBezTo>
                  <a:pt x="576" y="1457"/>
                  <a:pt x="568" y="1505"/>
                  <a:pt x="560" y="1552"/>
                </a:cubicBezTo>
                <a:cubicBezTo>
                  <a:pt x="557" y="1568"/>
                  <a:pt x="552" y="1596"/>
                  <a:pt x="536" y="1607"/>
                </a:cubicBezTo>
                <a:cubicBezTo>
                  <a:pt x="502" y="1631"/>
                  <a:pt x="482" y="1636"/>
                  <a:pt x="449" y="1647"/>
                </a:cubicBezTo>
                <a:cubicBezTo>
                  <a:pt x="416" y="1672"/>
                  <a:pt x="383" y="1683"/>
                  <a:pt x="347" y="1702"/>
                </a:cubicBezTo>
                <a:cubicBezTo>
                  <a:pt x="337" y="1717"/>
                  <a:pt x="334" y="1735"/>
                  <a:pt x="323" y="1749"/>
                </a:cubicBezTo>
                <a:cubicBezTo>
                  <a:pt x="317" y="1756"/>
                  <a:pt x="294" y="1772"/>
                  <a:pt x="300" y="1765"/>
                </a:cubicBezTo>
                <a:cubicBezTo>
                  <a:pt x="314" y="1747"/>
                  <a:pt x="331" y="1734"/>
                  <a:pt x="347" y="1718"/>
                </a:cubicBezTo>
                <a:cubicBezTo>
                  <a:pt x="374" y="1691"/>
                  <a:pt x="359" y="1679"/>
                  <a:pt x="394" y="1655"/>
                </a:cubicBezTo>
                <a:cubicBezTo>
                  <a:pt x="422" y="1598"/>
                  <a:pt x="438" y="1542"/>
                  <a:pt x="473" y="1489"/>
                </a:cubicBezTo>
                <a:cubicBezTo>
                  <a:pt x="495" y="1402"/>
                  <a:pt x="459" y="1525"/>
                  <a:pt x="513" y="1418"/>
                </a:cubicBezTo>
                <a:cubicBezTo>
                  <a:pt x="535" y="1375"/>
                  <a:pt x="550" y="1329"/>
                  <a:pt x="568" y="1284"/>
                </a:cubicBezTo>
                <a:cubicBezTo>
                  <a:pt x="608" y="1183"/>
                  <a:pt x="621" y="1066"/>
                  <a:pt x="639" y="960"/>
                </a:cubicBezTo>
                <a:cubicBezTo>
                  <a:pt x="634" y="852"/>
                  <a:pt x="658" y="677"/>
                  <a:pt x="591" y="590"/>
                </a:cubicBezTo>
                <a:cubicBezTo>
                  <a:pt x="574" y="532"/>
                  <a:pt x="568" y="502"/>
                  <a:pt x="536" y="455"/>
                </a:cubicBezTo>
                <a:cubicBezTo>
                  <a:pt x="534" y="446"/>
                  <a:pt x="512" y="382"/>
                  <a:pt x="505" y="377"/>
                </a:cubicBezTo>
                <a:cubicBezTo>
                  <a:pt x="496" y="370"/>
                  <a:pt x="484" y="372"/>
                  <a:pt x="473" y="369"/>
                </a:cubicBezTo>
                <a:cubicBezTo>
                  <a:pt x="439" y="318"/>
                  <a:pt x="435" y="325"/>
                  <a:pt x="386" y="298"/>
                </a:cubicBezTo>
                <a:cubicBezTo>
                  <a:pt x="369" y="289"/>
                  <a:pt x="356" y="274"/>
                  <a:pt x="339" y="266"/>
                </a:cubicBezTo>
                <a:cubicBezTo>
                  <a:pt x="328" y="261"/>
                  <a:pt x="318" y="255"/>
                  <a:pt x="307" y="250"/>
                </a:cubicBezTo>
                <a:cubicBezTo>
                  <a:pt x="312" y="261"/>
                  <a:pt x="315" y="273"/>
                  <a:pt x="323" y="282"/>
                </a:cubicBezTo>
                <a:cubicBezTo>
                  <a:pt x="329" y="289"/>
                  <a:pt x="342" y="290"/>
                  <a:pt x="347" y="298"/>
                </a:cubicBezTo>
                <a:cubicBezTo>
                  <a:pt x="363" y="321"/>
                  <a:pt x="362" y="353"/>
                  <a:pt x="378" y="377"/>
                </a:cubicBezTo>
                <a:cubicBezTo>
                  <a:pt x="389" y="393"/>
                  <a:pt x="410" y="406"/>
                  <a:pt x="426" y="416"/>
                </a:cubicBezTo>
                <a:cubicBezTo>
                  <a:pt x="432" y="504"/>
                  <a:pt x="435" y="557"/>
                  <a:pt x="457" y="637"/>
                </a:cubicBezTo>
                <a:cubicBezTo>
                  <a:pt x="462" y="750"/>
                  <a:pt x="468" y="881"/>
                  <a:pt x="505" y="992"/>
                </a:cubicBezTo>
                <a:cubicBezTo>
                  <a:pt x="511" y="1043"/>
                  <a:pt x="507" y="1099"/>
                  <a:pt x="536" y="1142"/>
                </a:cubicBezTo>
                <a:cubicBezTo>
                  <a:pt x="547" y="1198"/>
                  <a:pt x="558" y="1253"/>
                  <a:pt x="576" y="1308"/>
                </a:cubicBezTo>
                <a:cubicBezTo>
                  <a:pt x="569" y="1423"/>
                  <a:pt x="575" y="1524"/>
                  <a:pt x="489" y="1607"/>
                </a:cubicBezTo>
                <a:cubicBezTo>
                  <a:pt x="477" y="1632"/>
                  <a:pt x="425" y="1724"/>
                  <a:pt x="402" y="1742"/>
                </a:cubicBezTo>
                <a:cubicBezTo>
                  <a:pt x="384" y="1756"/>
                  <a:pt x="345" y="1758"/>
                  <a:pt x="323" y="1765"/>
                </a:cubicBezTo>
                <a:cubicBezTo>
                  <a:pt x="310" y="1762"/>
                  <a:pt x="297" y="1757"/>
                  <a:pt x="284" y="1757"/>
                </a:cubicBezTo>
                <a:cubicBezTo>
                  <a:pt x="273" y="1757"/>
                  <a:pt x="246" y="1774"/>
                  <a:pt x="252" y="1765"/>
                </a:cubicBezTo>
                <a:cubicBezTo>
                  <a:pt x="263" y="1749"/>
                  <a:pt x="300" y="1734"/>
                  <a:pt x="300" y="1734"/>
                </a:cubicBezTo>
                <a:cubicBezTo>
                  <a:pt x="305" y="1726"/>
                  <a:pt x="309" y="1717"/>
                  <a:pt x="315" y="1710"/>
                </a:cubicBezTo>
                <a:cubicBezTo>
                  <a:pt x="322" y="1701"/>
                  <a:pt x="333" y="1695"/>
                  <a:pt x="339" y="1686"/>
                </a:cubicBezTo>
                <a:cubicBezTo>
                  <a:pt x="370" y="1641"/>
                  <a:pt x="317" y="1683"/>
                  <a:pt x="371" y="1647"/>
                </a:cubicBezTo>
                <a:cubicBezTo>
                  <a:pt x="387" y="1613"/>
                  <a:pt x="395" y="1590"/>
                  <a:pt x="418" y="1560"/>
                </a:cubicBezTo>
                <a:cubicBezTo>
                  <a:pt x="447" y="1479"/>
                  <a:pt x="490" y="1411"/>
                  <a:pt x="520" y="1331"/>
                </a:cubicBezTo>
                <a:cubicBezTo>
                  <a:pt x="518" y="1100"/>
                  <a:pt x="518" y="868"/>
                  <a:pt x="513" y="637"/>
                </a:cubicBezTo>
                <a:cubicBezTo>
                  <a:pt x="512" y="591"/>
                  <a:pt x="508" y="483"/>
                  <a:pt x="473" y="448"/>
                </a:cubicBezTo>
                <a:cubicBezTo>
                  <a:pt x="453" y="428"/>
                  <a:pt x="446" y="425"/>
                  <a:pt x="434" y="400"/>
                </a:cubicBezTo>
                <a:cubicBezTo>
                  <a:pt x="414" y="360"/>
                  <a:pt x="400" y="312"/>
                  <a:pt x="355" y="298"/>
                </a:cubicBezTo>
                <a:cubicBezTo>
                  <a:pt x="339" y="287"/>
                  <a:pt x="323" y="277"/>
                  <a:pt x="307" y="266"/>
                </a:cubicBezTo>
                <a:cubicBezTo>
                  <a:pt x="282" y="249"/>
                  <a:pt x="300" y="239"/>
                  <a:pt x="284" y="219"/>
                </a:cubicBezTo>
                <a:cubicBezTo>
                  <a:pt x="278" y="212"/>
                  <a:pt x="268" y="208"/>
                  <a:pt x="260" y="203"/>
                </a:cubicBezTo>
                <a:cubicBezTo>
                  <a:pt x="257" y="211"/>
                  <a:pt x="249" y="219"/>
                  <a:pt x="252" y="227"/>
                </a:cubicBezTo>
                <a:cubicBezTo>
                  <a:pt x="256" y="237"/>
                  <a:pt x="269" y="241"/>
                  <a:pt x="276" y="250"/>
                </a:cubicBezTo>
                <a:cubicBezTo>
                  <a:pt x="296" y="277"/>
                  <a:pt x="310" y="309"/>
                  <a:pt x="331" y="337"/>
                </a:cubicBezTo>
                <a:cubicBezTo>
                  <a:pt x="349" y="392"/>
                  <a:pt x="387" y="442"/>
                  <a:pt x="410" y="495"/>
                </a:cubicBezTo>
                <a:cubicBezTo>
                  <a:pt x="419" y="516"/>
                  <a:pt x="423" y="565"/>
                  <a:pt x="426" y="582"/>
                </a:cubicBezTo>
                <a:cubicBezTo>
                  <a:pt x="433" y="616"/>
                  <a:pt x="461" y="652"/>
                  <a:pt x="473" y="684"/>
                </a:cubicBezTo>
                <a:cubicBezTo>
                  <a:pt x="487" y="723"/>
                  <a:pt x="500" y="763"/>
                  <a:pt x="513" y="803"/>
                </a:cubicBezTo>
                <a:cubicBezTo>
                  <a:pt x="517" y="871"/>
                  <a:pt x="528" y="939"/>
                  <a:pt x="528" y="1008"/>
                </a:cubicBezTo>
                <a:cubicBezTo>
                  <a:pt x="528" y="1063"/>
                  <a:pt x="523" y="1118"/>
                  <a:pt x="520" y="1173"/>
                </a:cubicBezTo>
                <a:cubicBezTo>
                  <a:pt x="508" y="1377"/>
                  <a:pt x="531" y="1486"/>
                  <a:pt x="410" y="1639"/>
                </a:cubicBezTo>
                <a:cubicBezTo>
                  <a:pt x="386" y="1670"/>
                  <a:pt x="366" y="1730"/>
                  <a:pt x="331" y="1742"/>
                </a:cubicBezTo>
                <a:cubicBezTo>
                  <a:pt x="302" y="1784"/>
                  <a:pt x="327" y="1851"/>
                  <a:pt x="355" y="1891"/>
                </a:cubicBezTo>
                <a:cubicBezTo>
                  <a:pt x="366" y="1923"/>
                  <a:pt x="374" y="1936"/>
                  <a:pt x="402" y="1955"/>
                </a:cubicBezTo>
                <a:cubicBezTo>
                  <a:pt x="448" y="2021"/>
                  <a:pt x="377" y="1922"/>
                  <a:pt x="449" y="2010"/>
                </a:cubicBezTo>
                <a:cubicBezTo>
                  <a:pt x="463" y="2028"/>
                  <a:pt x="489" y="2065"/>
                  <a:pt x="489" y="2065"/>
                </a:cubicBezTo>
                <a:cubicBezTo>
                  <a:pt x="504" y="2110"/>
                  <a:pt x="542" y="2116"/>
                  <a:pt x="568" y="2152"/>
                </a:cubicBezTo>
                <a:cubicBezTo>
                  <a:pt x="574" y="2160"/>
                  <a:pt x="590" y="2199"/>
                  <a:pt x="599" y="2207"/>
                </a:cubicBezTo>
                <a:cubicBezTo>
                  <a:pt x="625" y="2230"/>
                  <a:pt x="649" y="2240"/>
                  <a:pt x="678" y="2254"/>
                </a:cubicBezTo>
                <a:cubicBezTo>
                  <a:pt x="733" y="2309"/>
                  <a:pt x="684" y="2269"/>
                  <a:pt x="757" y="2302"/>
                </a:cubicBezTo>
                <a:cubicBezTo>
                  <a:pt x="799" y="2321"/>
                  <a:pt x="818" y="2348"/>
                  <a:pt x="860" y="2365"/>
                </a:cubicBezTo>
                <a:cubicBezTo>
                  <a:pt x="895" y="2418"/>
                  <a:pt x="916" y="2470"/>
                  <a:pt x="970" y="2507"/>
                </a:cubicBezTo>
                <a:cubicBezTo>
                  <a:pt x="989" y="2563"/>
                  <a:pt x="972" y="2545"/>
                  <a:pt x="1010" y="2570"/>
                </a:cubicBezTo>
                <a:cubicBezTo>
                  <a:pt x="1028" y="2599"/>
                  <a:pt x="1051" y="2607"/>
                  <a:pt x="1073" y="2633"/>
                </a:cubicBezTo>
                <a:cubicBezTo>
                  <a:pt x="1147" y="2721"/>
                  <a:pt x="1051" y="2612"/>
                  <a:pt x="1112" y="2696"/>
                </a:cubicBezTo>
                <a:cubicBezTo>
                  <a:pt x="1143" y="2738"/>
                  <a:pt x="1163" y="2769"/>
                  <a:pt x="1191" y="2815"/>
                </a:cubicBezTo>
                <a:cubicBezTo>
                  <a:pt x="1194" y="2828"/>
                  <a:pt x="1195" y="2841"/>
                  <a:pt x="1199" y="2854"/>
                </a:cubicBezTo>
                <a:cubicBezTo>
                  <a:pt x="1203" y="2870"/>
                  <a:pt x="1215" y="2901"/>
                  <a:pt x="1215" y="2901"/>
                </a:cubicBezTo>
                <a:cubicBezTo>
                  <a:pt x="1224" y="3000"/>
                  <a:pt x="1224" y="2991"/>
                  <a:pt x="1262" y="3067"/>
                </a:cubicBezTo>
                <a:cubicBezTo>
                  <a:pt x="1268" y="3080"/>
                  <a:pt x="1270" y="3106"/>
                  <a:pt x="1286" y="3114"/>
                </a:cubicBezTo>
                <a:cubicBezTo>
                  <a:pt x="1300" y="3121"/>
                  <a:pt x="1317" y="3119"/>
                  <a:pt x="1333" y="3122"/>
                </a:cubicBezTo>
                <a:cubicBezTo>
                  <a:pt x="1330" y="3130"/>
                  <a:pt x="1333" y="3149"/>
                  <a:pt x="1325" y="3146"/>
                </a:cubicBezTo>
                <a:cubicBezTo>
                  <a:pt x="1305" y="3137"/>
                  <a:pt x="1278" y="3099"/>
                  <a:pt x="1278" y="3099"/>
                </a:cubicBezTo>
                <a:cubicBezTo>
                  <a:pt x="1268" y="3057"/>
                  <a:pt x="1273" y="3062"/>
                  <a:pt x="1238" y="3020"/>
                </a:cubicBezTo>
                <a:cubicBezTo>
                  <a:pt x="1224" y="3003"/>
                  <a:pt x="1191" y="2972"/>
                  <a:pt x="1191" y="2972"/>
                </a:cubicBezTo>
                <a:cubicBezTo>
                  <a:pt x="1161" y="2899"/>
                  <a:pt x="1129" y="2851"/>
                  <a:pt x="1057" y="2815"/>
                </a:cubicBezTo>
                <a:cubicBezTo>
                  <a:pt x="1031" y="2802"/>
                  <a:pt x="1004" y="2789"/>
                  <a:pt x="978" y="2775"/>
                </a:cubicBezTo>
                <a:cubicBezTo>
                  <a:pt x="954" y="2762"/>
                  <a:pt x="907" y="2736"/>
                  <a:pt x="907" y="2736"/>
                </a:cubicBezTo>
                <a:cubicBezTo>
                  <a:pt x="862" y="2677"/>
                  <a:pt x="877" y="2594"/>
                  <a:pt x="852" y="2523"/>
                </a:cubicBezTo>
                <a:cubicBezTo>
                  <a:pt x="841" y="2454"/>
                  <a:pt x="845" y="2377"/>
                  <a:pt x="804" y="2318"/>
                </a:cubicBezTo>
                <a:cubicBezTo>
                  <a:pt x="794" y="2282"/>
                  <a:pt x="792" y="2241"/>
                  <a:pt x="781" y="2207"/>
                </a:cubicBezTo>
                <a:cubicBezTo>
                  <a:pt x="776" y="2192"/>
                  <a:pt x="763" y="2182"/>
                  <a:pt x="757" y="2168"/>
                </a:cubicBezTo>
                <a:cubicBezTo>
                  <a:pt x="747" y="2145"/>
                  <a:pt x="751" y="2115"/>
                  <a:pt x="733" y="2097"/>
                </a:cubicBezTo>
                <a:cubicBezTo>
                  <a:pt x="685" y="2048"/>
                  <a:pt x="662" y="2015"/>
                  <a:pt x="599" y="1994"/>
                </a:cubicBezTo>
                <a:cubicBezTo>
                  <a:pt x="539" y="1953"/>
                  <a:pt x="521" y="1957"/>
                  <a:pt x="449" y="1939"/>
                </a:cubicBezTo>
                <a:cubicBezTo>
                  <a:pt x="424" y="1899"/>
                  <a:pt x="381" y="1896"/>
                  <a:pt x="347" y="1868"/>
                </a:cubicBezTo>
                <a:cubicBezTo>
                  <a:pt x="320" y="1845"/>
                  <a:pt x="312" y="1829"/>
                  <a:pt x="292" y="1797"/>
                </a:cubicBezTo>
                <a:cubicBezTo>
                  <a:pt x="284" y="1784"/>
                  <a:pt x="281" y="1765"/>
                  <a:pt x="268" y="1757"/>
                </a:cubicBezTo>
                <a:cubicBezTo>
                  <a:pt x="239" y="1739"/>
                  <a:pt x="214" y="1727"/>
                  <a:pt x="189" y="1702"/>
                </a:cubicBezTo>
                <a:cubicBezTo>
                  <a:pt x="211" y="1767"/>
                  <a:pt x="137" y="1711"/>
                  <a:pt x="102" y="1702"/>
                </a:cubicBezTo>
                <a:cubicBezTo>
                  <a:pt x="92" y="1699"/>
                  <a:pt x="71" y="1694"/>
                  <a:pt x="71" y="1694"/>
                </a:cubicBezTo>
                <a:cubicBezTo>
                  <a:pt x="47" y="1678"/>
                  <a:pt x="24" y="1672"/>
                  <a:pt x="0" y="1655"/>
                </a:cubicBezTo>
                <a:cubicBezTo>
                  <a:pt x="60" y="1649"/>
                  <a:pt x="121" y="1639"/>
                  <a:pt x="181" y="1655"/>
                </a:cubicBezTo>
                <a:cubicBezTo>
                  <a:pt x="260" y="1677"/>
                  <a:pt x="278" y="1770"/>
                  <a:pt x="355" y="1789"/>
                </a:cubicBezTo>
                <a:cubicBezTo>
                  <a:pt x="370" y="1833"/>
                  <a:pt x="378" y="1880"/>
                  <a:pt x="418" y="1907"/>
                </a:cubicBezTo>
                <a:cubicBezTo>
                  <a:pt x="421" y="1918"/>
                  <a:pt x="418" y="1931"/>
                  <a:pt x="426" y="1939"/>
                </a:cubicBezTo>
                <a:cubicBezTo>
                  <a:pt x="433" y="1947"/>
                  <a:pt x="448" y="1942"/>
                  <a:pt x="457" y="1947"/>
                </a:cubicBezTo>
                <a:cubicBezTo>
                  <a:pt x="467" y="1952"/>
                  <a:pt x="472" y="1964"/>
                  <a:pt x="481" y="1970"/>
                </a:cubicBezTo>
                <a:cubicBezTo>
                  <a:pt x="564" y="2025"/>
                  <a:pt x="499" y="1965"/>
                  <a:pt x="552" y="2018"/>
                </a:cubicBezTo>
                <a:cubicBezTo>
                  <a:pt x="575" y="2084"/>
                  <a:pt x="566" y="2071"/>
                  <a:pt x="615" y="2120"/>
                </a:cubicBezTo>
                <a:cubicBezTo>
                  <a:pt x="624" y="2129"/>
                  <a:pt x="629" y="2143"/>
                  <a:pt x="639" y="2152"/>
                </a:cubicBezTo>
                <a:cubicBezTo>
                  <a:pt x="671" y="2180"/>
                  <a:pt x="679" y="2167"/>
                  <a:pt x="702" y="2199"/>
                </a:cubicBezTo>
                <a:cubicBezTo>
                  <a:pt x="714" y="2216"/>
                  <a:pt x="720" y="2238"/>
                  <a:pt x="733" y="2254"/>
                </a:cubicBezTo>
                <a:cubicBezTo>
                  <a:pt x="769" y="2299"/>
                  <a:pt x="816" y="2339"/>
                  <a:pt x="868" y="2365"/>
                </a:cubicBezTo>
                <a:cubicBezTo>
                  <a:pt x="894" y="2418"/>
                  <a:pt x="945" y="2456"/>
                  <a:pt x="1002" y="2475"/>
                </a:cubicBezTo>
                <a:cubicBezTo>
                  <a:pt x="1022" y="2506"/>
                  <a:pt x="1028" y="2539"/>
                  <a:pt x="1049" y="2570"/>
                </a:cubicBezTo>
                <a:cubicBezTo>
                  <a:pt x="1056" y="2605"/>
                  <a:pt x="1057" y="2642"/>
                  <a:pt x="1073" y="2673"/>
                </a:cubicBezTo>
                <a:cubicBezTo>
                  <a:pt x="1087" y="2700"/>
                  <a:pt x="1102" y="2723"/>
                  <a:pt x="1112" y="2752"/>
                </a:cubicBezTo>
                <a:cubicBezTo>
                  <a:pt x="1115" y="2776"/>
                  <a:pt x="1111" y="2801"/>
                  <a:pt x="1120" y="2823"/>
                </a:cubicBezTo>
                <a:cubicBezTo>
                  <a:pt x="1123" y="2831"/>
                  <a:pt x="1138" y="2824"/>
                  <a:pt x="1144" y="2830"/>
                </a:cubicBezTo>
                <a:cubicBezTo>
                  <a:pt x="1160" y="2845"/>
                  <a:pt x="1161" y="2888"/>
                  <a:pt x="1175" y="2909"/>
                </a:cubicBezTo>
                <a:cubicBezTo>
                  <a:pt x="1184" y="3024"/>
                  <a:pt x="1178" y="3046"/>
                  <a:pt x="1254" y="3122"/>
                </a:cubicBezTo>
                <a:cubicBezTo>
                  <a:pt x="1236" y="3015"/>
                  <a:pt x="1189" y="2912"/>
                  <a:pt x="1128" y="2823"/>
                </a:cubicBezTo>
                <a:cubicBezTo>
                  <a:pt x="1110" y="2734"/>
                  <a:pt x="1067" y="2681"/>
                  <a:pt x="1010" y="2609"/>
                </a:cubicBezTo>
                <a:cubicBezTo>
                  <a:pt x="992" y="2586"/>
                  <a:pt x="987" y="2555"/>
                  <a:pt x="970" y="2531"/>
                </a:cubicBezTo>
                <a:cubicBezTo>
                  <a:pt x="963" y="2520"/>
                  <a:pt x="948" y="2516"/>
                  <a:pt x="939" y="2507"/>
                </a:cubicBezTo>
                <a:cubicBezTo>
                  <a:pt x="877" y="2445"/>
                  <a:pt x="797" y="2373"/>
                  <a:pt x="749" y="2302"/>
                </a:cubicBezTo>
                <a:cubicBezTo>
                  <a:pt x="691" y="2216"/>
                  <a:pt x="634" y="2106"/>
                  <a:pt x="536" y="2057"/>
                </a:cubicBezTo>
                <a:cubicBezTo>
                  <a:pt x="493" y="2000"/>
                  <a:pt x="435" y="1956"/>
                  <a:pt x="402" y="1891"/>
                </a:cubicBezTo>
                <a:cubicBezTo>
                  <a:pt x="381" y="1849"/>
                  <a:pt x="388" y="1825"/>
                  <a:pt x="347" y="1797"/>
                </a:cubicBezTo>
                <a:cubicBezTo>
                  <a:pt x="344" y="1789"/>
                  <a:pt x="346" y="1778"/>
                  <a:pt x="339" y="1773"/>
                </a:cubicBezTo>
                <a:cubicBezTo>
                  <a:pt x="330" y="1766"/>
                  <a:pt x="317" y="1769"/>
                  <a:pt x="307" y="1765"/>
                </a:cubicBezTo>
                <a:cubicBezTo>
                  <a:pt x="288" y="1757"/>
                  <a:pt x="271" y="1743"/>
                  <a:pt x="252" y="1734"/>
                </a:cubicBezTo>
                <a:cubicBezTo>
                  <a:pt x="213" y="1695"/>
                  <a:pt x="202" y="1721"/>
                  <a:pt x="173" y="1678"/>
                </a:cubicBezTo>
                <a:cubicBezTo>
                  <a:pt x="176" y="1668"/>
                  <a:pt x="175" y="1656"/>
                  <a:pt x="181" y="1647"/>
                </a:cubicBezTo>
                <a:cubicBezTo>
                  <a:pt x="194" y="1629"/>
                  <a:pt x="228" y="1600"/>
                  <a:pt x="228" y="1600"/>
                </a:cubicBezTo>
                <a:cubicBezTo>
                  <a:pt x="252" y="1529"/>
                  <a:pt x="212" y="1643"/>
                  <a:pt x="260" y="1536"/>
                </a:cubicBezTo>
                <a:cubicBezTo>
                  <a:pt x="286" y="1478"/>
                  <a:pt x="307" y="1414"/>
                  <a:pt x="347" y="1363"/>
                </a:cubicBezTo>
                <a:cubicBezTo>
                  <a:pt x="350" y="1350"/>
                  <a:pt x="351" y="1336"/>
                  <a:pt x="355" y="1323"/>
                </a:cubicBezTo>
                <a:cubicBezTo>
                  <a:pt x="359" y="1312"/>
                  <a:pt x="368" y="1303"/>
                  <a:pt x="371" y="1292"/>
                </a:cubicBezTo>
                <a:cubicBezTo>
                  <a:pt x="376" y="1271"/>
                  <a:pt x="373" y="1249"/>
                  <a:pt x="378" y="1229"/>
                </a:cubicBezTo>
                <a:cubicBezTo>
                  <a:pt x="389" y="1188"/>
                  <a:pt x="431" y="1143"/>
                  <a:pt x="457" y="1110"/>
                </a:cubicBezTo>
                <a:cubicBezTo>
                  <a:pt x="490" y="1067"/>
                  <a:pt x="522" y="1021"/>
                  <a:pt x="552" y="976"/>
                </a:cubicBezTo>
                <a:cubicBezTo>
                  <a:pt x="555" y="955"/>
                  <a:pt x="554" y="933"/>
                  <a:pt x="560" y="913"/>
                </a:cubicBezTo>
                <a:cubicBezTo>
                  <a:pt x="570" y="877"/>
                  <a:pt x="612" y="851"/>
                  <a:pt x="631" y="818"/>
                </a:cubicBezTo>
                <a:cubicBezTo>
                  <a:pt x="645" y="793"/>
                  <a:pt x="651" y="760"/>
                  <a:pt x="670" y="739"/>
                </a:cubicBezTo>
                <a:cubicBezTo>
                  <a:pt x="732" y="671"/>
                  <a:pt x="833" y="572"/>
                  <a:pt x="923" y="550"/>
                </a:cubicBezTo>
                <a:cubicBezTo>
                  <a:pt x="965" y="523"/>
                  <a:pt x="1000" y="490"/>
                  <a:pt x="1041" y="463"/>
                </a:cubicBezTo>
                <a:cubicBezTo>
                  <a:pt x="1069" y="445"/>
                  <a:pt x="1102" y="438"/>
                  <a:pt x="1128" y="416"/>
                </a:cubicBezTo>
                <a:cubicBezTo>
                  <a:pt x="1212" y="346"/>
                  <a:pt x="1103" y="433"/>
                  <a:pt x="1167" y="369"/>
                </a:cubicBezTo>
                <a:cubicBezTo>
                  <a:pt x="1197" y="339"/>
                  <a:pt x="1273" y="278"/>
                  <a:pt x="1309" y="266"/>
                </a:cubicBezTo>
                <a:cubicBezTo>
                  <a:pt x="1337" y="257"/>
                  <a:pt x="1336" y="258"/>
                  <a:pt x="1365" y="242"/>
                </a:cubicBezTo>
                <a:cubicBezTo>
                  <a:pt x="1421" y="210"/>
                  <a:pt x="1475" y="170"/>
                  <a:pt x="1538" y="156"/>
                </a:cubicBezTo>
                <a:cubicBezTo>
                  <a:pt x="1549" y="151"/>
                  <a:pt x="1561" y="148"/>
                  <a:pt x="1570" y="140"/>
                </a:cubicBezTo>
                <a:cubicBezTo>
                  <a:pt x="1577" y="134"/>
                  <a:pt x="1594" y="121"/>
                  <a:pt x="1586" y="116"/>
                </a:cubicBezTo>
                <a:cubicBezTo>
                  <a:pt x="1575" y="108"/>
                  <a:pt x="1559" y="121"/>
                  <a:pt x="1546" y="124"/>
                </a:cubicBezTo>
                <a:cubicBezTo>
                  <a:pt x="1485" y="166"/>
                  <a:pt x="1575" y="109"/>
                  <a:pt x="1475" y="148"/>
                </a:cubicBezTo>
                <a:cubicBezTo>
                  <a:pt x="1469" y="150"/>
                  <a:pt x="1406" y="189"/>
                  <a:pt x="1396" y="195"/>
                </a:cubicBezTo>
                <a:cubicBezTo>
                  <a:pt x="1333" y="290"/>
                  <a:pt x="1320" y="349"/>
                  <a:pt x="1223" y="424"/>
                </a:cubicBezTo>
                <a:cubicBezTo>
                  <a:pt x="1197" y="501"/>
                  <a:pt x="1132" y="547"/>
                  <a:pt x="1089" y="613"/>
                </a:cubicBezTo>
                <a:cubicBezTo>
                  <a:pt x="1068" y="697"/>
                  <a:pt x="1069" y="677"/>
                  <a:pt x="1018" y="732"/>
                </a:cubicBezTo>
                <a:cubicBezTo>
                  <a:pt x="993" y="759"/>
                  <a:pt x="971" y="789"/>
                  <a:pt x="947" y="818"/>
                </a:cubicBezTo>
                <a:cubicBezTo>
                  <a:pt x="939" y="827"/>
                  <a:pt x="925" y="827"/>
                  <a:pt x="915" y="834"/>
                </a:cubicBezTo>
                <a:cubicBezTo>
                  <a:pt x="892" y="850"/>
                  <a:pt x="875" y="874"/>
                  <a:pt x="852" y="889"/>
                </a:cubicBezTo>
                <a:cubicBezTo>
                  <a:pt x="837" y="899"/>
                  <a:pt x="820" y="904"/>
                  <a:pt x="804" y="913"/>
                </a:cubicBezTo>
                <a:cubicBezTo>
                  <a:pt x="796" y="918"/>
                  <a:pt x="789" y="924"/>
                  <a:pt x="781" y="929"/>
                </a:cubicBezTo>
                <a:cubicBezTo>
                  <a:pt x="772" y="964"/>
                  <a:pt x="752" y="998"/>
                  <a:pt x="726" y="1024"/>
                </a:cubicBezTo>
                <a:cubicBezTo>
                  <a:pt x="687" y="1063"/>
                  <a:pt x="715" y="1011"/>
                  <a:pt x="678" y="1063"/>
                </a:cubicBezTo>
                <a:cubicBezTo>
                  <a:pt x="658" y="1091"/>
                  <a:pt x="623" y="1150"/>
                  <a:pt x="623" y="1150"/>
                </a:cubicBezTo>
                <a:cubicBezTo>
                  <a:pt x="611" y="1195"/>
                  <a:pt x="584" y="1214"/>
                  <a:pt x="560" y="1252"/>
                </a:cubicBezTo>
                <a:cubicBezTo>
                  <a:pt x="530" y="1299"/>
                  <a:pt x="505" y="1356"/>
                  <a:pt x="465" y="1394"/>
                </a:cubicBezTo>
                <a:cubicBezTo>
                  <a:pt x="429" y="1468"/>
                  <a:pt x="408" y="1557"/>
                  <a:pt x="347" y="1615"/>
                </a:cubicBezTo>
                <a:cubicBezTo>
                  <a:pt x="311" y="1686"/>
                  <a:pt x="282" y="1706"/>
                  <a:pt x="205" y="1726"/>
                </a:cubicBezTo>
                <a:cubicBezTo>
                  <a:pt x="199" y="1725"/>
                  <a:pt x="143" y="1708"/>
                  <a:pt x="134" y="1726"/>
                </a:cubicBezTo>
                <a:cubicBezTo>
                  <a:pt x="130" y="1734"/>
                  <a:pt x="144" y="1742"/>
                  <a:pt x="150" y="1749"/>
                </a:cubicBezTo>
                <a:cubicBezTo>
                  <a:pt x="193" y="1797"/>
                  <a:pt x="238" y="1831"/>
                  <a:pt x="300" y="1852"/>
                </a:cubicBezTo>
                <a:cubicBezTo>
                  <a:pt x="340" y="1883"/>
                  <a:pt x="357" y="1916"/>
                  <a:pt x="386" y="1955"/>
                </a:cubicBezTo>
                <a:cubicBezTo>
                  <a:pt x="434" y="2019"/>
                  <a:pt x="564" y="2077"/>
                  <a:pt x="639" y="2089"/>
                </a:cubicBezTo>
                <a:cubicBezTo>
                  <a:pt x="653" y="2094"/>
                  <a:pt x="684" y="2104"/>
                  <a:pt x="694" y="2112"/>
                </a:cubicBezTo>
                <a:cubicBezTo>
                  <a:pt x="719" y="2132"/>
                  <a:pt x="727" y="2172"/>
                  <a:pt x="741" y="2199"/>
                </a:cubicBezTo>
                <a:cubicBezTo>
                  <a:pt x="757" y="2231"/>
                  <a:pt x="781" y="2247"/>
                  <a:pt x="812" y="2262"/>
                </a:cubicBezTo>
                <a:cubicBezTo>
                  <a:pt x="855" y="2333"/>
                  <a:pt x="923" y="2386"/>
                  <a:pt x="1002" y="2412"/>
                </a:cubicBezTo>
                <a:cubicBezTo>
                  <a:pt x="1014" y="2460"/>
                  <a:pt x="1022" y="2441"/>
                  <a:pt x="1057" y="2475"/>
                </a:cubicBezTo>
                <a:cubicBezTo>
                  <a:pt x="1072" y="2521"/>
                  <a:pt x="1079" y="2522"/>
                  <a:pt x="1128" y="2538"/>
                </a:cubicBezTo>
                <a:cubicBezTo>
                  <a:pt x="1159" y="2569"/>
                  <a:pt x="1160" y="2603"/>
                  <a:pt x="1183" y="2641"/>
                </a:cubicBezTo>
                <a:cubicBezTo>
                  <a:pt x="1186" y="2686"/>
                  <a:pt x="1185" y="2731"/>
                  <a:pt x="1191" y="2775"/>
                </a:cubicBezTo>
                <a:cubicBezTo>
                  <a:pt x="1198" y="2828"/>
                  <a:pt x="1230" y="2878"/>
                  <a:pt x="1254" y="2925"/>
                </a:cubicBezTo>
                <a:cubicBezTo>
                  <a:pt x="1269" y="2986"/>
                  <a:pt x="1258" y="3062"/>
                  <a:pt x="1294" y="3114"/>
                </a:cubicBezTo>
                <a:cubicBezTo>
                  <a:pt x="1297" y="3122"/>
                  <a:pt x="1299" y="3130"/>
                  <a:pt x="1302" y="3138"/>
                </a:cubicBezTo>
                <a:cubicBezTo>
                  <a:pt x="1339" y="3229"/>
                  <a:pt x="1311" y="3095"/>
                  <a:pt x="1294" y="3067"/>
                </a:cubicBezTo>
                <a:cubicBezTo>
                  <a:pt x="1275" y="2975"/>
                  <a:pt x="1274" y="2992"/>
                  <a:pt x="1215" y="2917"/>
                </a:cubicBezTo>
                <a:cubicBezTo>
                  <a:pt x="1203" y="2902"/>
                  <a:pt x="1183" y="2870"/>
                  <a:pt x="1183" y="2870"/>
                </a:cubicBezTo>
                <a:cubicBezTo>
                  <a:pt x="1169" y="2815"/>
                  <a:pt x="1160" y="2774"/>
                  <a:pt x="1112" y="2744"/>
                </a:cubicBezTo>
                <a:cubicBezTo>
                  <a:pt x="1099" y="2705"/>
                  <a:pt x="1087" y="2687"/>
                  <a:pt x="1057" y="2657"/>
                </a:cubicBezTo>
                <a:cubicBezTo>
                  <a:pt x="1043" y="2614"/>
                  <a:pt x="1010" y="2597"/>
                  <a:pt x="978" y="2570"/>
                </a:cubicBezTo>
                <a:cubicBezTo>
                  <a:pt x="957" y="2552"/>
                  <a:pt x="930" y="2517"/>
                  <a:pt x="915" y="2499"/>
                </a:cubicBezTo>
                <a:cubicBezTo>
                  <a:pt x="898" y="2430"/>
                  <a:pt x="848" y="2356"/>
                  <a:pt x="804" y="2302"/>
                </a:cubicBezTo>
                <a:cubicBezTo>
                  <a:pt x="783" y="2230"/>
                  <a:pt x="762" y="2221"/>
                  <a:pt x="702" y="2176"/>
                </a:cubicBezTo>
                <a:cubicBezTo>
                  <a:pt x="693" y="2169"/>
                  <a:pt x="687" y="2159"/>
                  <a:pt x="678" y="2152"/>
                </a:cubicBezTo>
                <a:cubicBezTo>
                  <a:pt x="671" y="2146"/>
                  <a:pt x="663" y="2141"/>
                  <a:pt x="655" y="2136"/>
                </a:cubicBezTo>
                <a:cubicBezTo>
                  <a:pt x="625" y="2092"/>
                  <a:pt x="597" y="2054"/>
                  <a:pt x="544" y="2041"/>
                </a:cubicBezTo>
                <a:cubicBezTo>
                  <a:pt x="526" y="2030"/>
                  <a:pt x="502" y="2026"/>
                  <a:pt x="489" y="2010"/>
                </a:cubicBezTo>
                <a:cubicBezTo>
                  <a:pt x="474" y="1992"/>
                  <a:pt x="473" y="1964"/>
                  <a:pt x="457" y="1947"/>
                </a:cubicBezTo>
                <a:cubicBezTo>
                  <a:pt x="449" y="1939"/>
                  <a:pt x="442" y="1931"/>
                  <a:pt x="434" y="1923"/>
                </a:cubicBezTo>
                <a:cubicBezTo>
                  <a:pt x="423" y="1890"/>
                  <a:pt x="396" y="1878"/>
                  <a:pt x="371" y="1852"/>
                </a:cubicBezTo>
                <a:cubicBezTo>
                  <a:pt x="354" y="1802"/>
                  <a:pt x="327" y="1762"/>
                  <a:pt x="276" y="1749"/>
                </a:cubicBezTo>
                <a:cubicBezTo>
                  <a:pt x="244" y="1718"/>
                  <a:pt x="210" y="1680"/>
                  <a:pt x="173" y="1655"/>
                </a:cubicBezTo>
                <a:cubicBezTo>
                  <a:pt x="152" y="1592"/>
                  <a:pt x="215" y="1549"/>
                  <a:pt x="252" y="1505"/>
                </a:cubicBezTo>
                <a:cubicBezTo>
                  <a:pt x="282" y="1469"/>
                  <a:pt x="308" y="1429"/>
                  <a:pt x="339" y="1394"/>
                </a:cubicBezTo>
                <a:cubicBezTo>
                  <a:pt x="350" y="1382"/>
                  <a:pt x="365" y="1373"/>
                  <a:pt x="378" y="1363"/>
                </a:cubicBezTo>
                <a:cubicBezTo>
                  <a:pt x="411" y="1306"/>
                  <a:pt x="545" y="1133"/>
                  <a:pt x="552" y="1126"/>
                </a:cubicBezTo>
                <a:cubicBezTo>
                  <a:pt x="570" y="1108"/>
                  <a:pt x="607" y="1071"/>
                  <a:pt x="607" y="1071"/>
                </a:cubicBezTo>
                <a:cubicBezTo>
                  <a:pt x="642" y="979"/>
                  <a:pt x="698" y="898"/>
                  <a:pt x="781" y="842"/>
                </a:cubicBezTo>
                <a:cubicBezTo>
                  <a:pt x="795" y="799"/>
                  <a:pt x="828" y="729"/>
                  <a:pt x="852" y="692"/>
                </a:cubicBezTo>
                <a:cubicBezTo>
                  <a:pt x="876" y="654"/>
                  <a:pt x="912" y="625"/>
                  <a:pt x="939" y="590"/>
                </a:cubicBezTo>
                <a:cubicBezTo>
                  <a:pt x="953" y="533"/>
                  <a:pt x="985" y="483"/>
                  <a:pt x="1033" y="448"/>
                </a:cubicBezTo>
                <a:cubicBezTo>
                  <a:pt x="1053" y="417"/>
                  <a:pt x="1093" y="405"/>
                  <a:pt x="1128" y="392"/>
                </a:cubicBezTo>
                <a:cubicBezTo>
                  <a:pt x="1169" y="377"/>
                  <a:pt x="1205" y="354"/>
                  <a:pt x="1246" y="337"/>
                </a:cubicBezTo>
                <a:cubicBezTo>
                  <a:pt x="1312" y="310"/>
                  <a:pt x="1274" y="334"/>
                  <a:pt x="1325" y="305"/>
                </a:cubicBezTo>
                <a:cubicBezTo>
                  <a:pt x="1387" y="270"/>
                  <a:pt x="1422" y="202"/>
                  <a:pt x="1491" y="179"/>
                </a:cubicBezTo>
                <a:cubicBezTo>
                  <a:pt x="1442" y="163"/>
                  <a:pt x="1429" y="209"/>
                  <a:pt x="1388" y="227"/>
                </a:cubicBezTo>
                <a:cubicBezTo>
                  <a:pt x="1376" y="232"/>
                  <a:pt x="1362" y="232"/>
                  <a:pt x="1349" y="234"/>
                </a:cubicBezTo>
                <a:cubicBezTo>
                  <a:pt x="1288" y="280"/>
                  <a:pt x="1230" y="297"/>
                  <a:pt x="1160" y="321"/>
                </a:cubicBezTo>
                <a:cubicBezTo>
                  <a:pt x="1103" y="378"/>
                  <a:pt x="1039" y="427"/>
                  <a:pt x="986" y="487"/>
                </a:cubicBezTo>
                <a:cubicBezTo>
                  <a:pt x="973" y="501"/>
                  <a:pt x="966" y="520"/>
                  <a:pt x="954" y="534"/>
                </a:cubicBezTo>
                <a:cubicBezTo>
                  <a:pt x="932" y="559"/>
                  <a:pt x="901" y="577"/>
                  <a:pt x="883" y="605"/>
                </a:cubicBezTo>
                <a:cubicBezTo>
                  <a:pt x="873" y="621"/>
                  <a:pt x="852" y="653"/>
                  <a:pt x="852" y="653"/>
                </a:cubicBezTo>
                <a:cubicBezTo>
                  <a:pt x="842" y="702"/>
                  <a:pt x="822" y="734"/>
                  <a:pt x="781" y="763"/>
                </a:cubicBezTo>
                <a:cubicBezTo>
                  <a:pt x="778" y="774"/>
                  <a:pt x="778" y="785"/>
                  <a:pt x="773" y="795"/>
                </a:cubicBezTo>
                <a:cubicBezTo>
                  <a:pt x="762" y="817"/>
                  <a:pt x="733" y="858"/>
                  <a:pt x="733" y="858"/>
                </a:cubicBezTo>
                <a:cubicBezTo>
                  <a:pt x="722" y="909"/>
                  <a:pt x="701" y="958"/>
                  <a:pt x="686" y="1008"/>
                </a:cubicBezTo>
                <a:cubicBezTo>
                  <a:pt x="680" y="1125"/>
                  <a:pt x="677" y="1294"/>
                  <a:pt x="599" y="1394"/>
                </a:cubicBezTo>
                <a:cubicBezTo>
                  <a:pt x="586" y="1439"/>
                  <a:pt x="579" y="1497"/>
                  <a:pt x="552" y="1536"/>
                </a:cubicBezTo>
                <a:cubicBezTo>
                  <a:pt x="534" y="1590"/>
                  <a:pt x="490" y="1647"/>
                  <a:pt x="449" y="1686"/>
                </a:cubicBezTo>
                <a:cubicBezTo>
                  <a:pt x="439" y="1721"/>
                  <a:pt x="424" y="1753"/>
                  <a:pt x="394" y="1773"/>
                </a:cubicBezTo>
                <a:cubicBezTo>
                  <a:pt x="356" y="1826"/>
                  <a:pt x="322" y="1819"/>
                  <a:pt x="260" y="1828"/>
                </a:cubicBezTo>
                <a:cubicBezTo>
                  <a:pt x="236" y="1844"/>
                  <a:pt x="213" y="1852"/>
                  <a:pt x="189" y="1868"/>
                </a:cubicBezTo>
                <a:cubicBezTo>
                  <a:pt x="197" y="1873"/>
                  <a:pt x="204" y="1880"/>
                  <a:pt x="213" y="1884"/>
                </a:cubicBezTo>
                <a:cubicBezTo>
                  <a:pt x="228" y="1891"/>
                  <a:pt x="260" y="1899"/>
                  <a:pt x="260" y="1899"/>
                </a:cubicBezTo>
                <a:cubicBezTo>
                  <a:pt x="301" y="1940"/>
                  <a:pt x="353" y="1953"/>
                  <a:pt x="402" y="1986"/>
                </a:cubicBezTo>
                <a:cubicBezTo>
                  <a:pt x="444" y="2014"/>
                  <a:pt x="470" y="2061"/>
                  <a:pt x="513" y="2089"/>
                </a:cubicBezTo>
                <a:cubicBezTo>
                  <a:pt x="565" y="2168"/>
                  <a:pt x="536" y="2144"/>
                  <a:pt x="584" y="2176"/>
                </a:cubicBezTo>
                <a:cubicBezTo>
                  <a:pt x="623" y="2257"/>
                  <a:pt x="569" y="2161"/>
                  <a:pt x="631" y="2223"/>
                </a:cubicBezTo>
                <a:cubicBezTo>
                  <a:pt x="637" y="2229"/>
                  <a:pt x="635" y="2240"/>
                  <a:pt x="639" y="2247"/>
                </a:cubicBezTo>
                <a:cubicBezTo>
                  <a:pt x="648" y="2261"/>
                  <a:pt x="660" y="2272"/>
                  <a:pt x="670" y="2286"/>
                </a:cubicBezTo>
                <a:cubicBezTo>
                  <a:pt x="679" y="2298"/>
                  <a:pt x="682" y="2315"/>
                  <a:pt x="694" y="2325"/>
                </a:cubicBezTo>
                <a:cubicBezTo>
                  <a:pt x="712" y="2340"/>
                  <a:pt x="737" y="2345"/>
                  <a:pt x="757" y="2357"/>
                </a:cubicBezTo>
                <a:cubicBezTo>
                  <a:pt x="817" y="2392"/>
                  <a:pt x="869" y="2438"/>
                  <a:pt x="939" y="2452"/>
                </a:cubicBezTo>
                <a:cubicBezTo>
                  <a:pt x="957" y="2470"/>
                  <a:pt x="986" y="2482"/>
                  <a:pt x="994" y="2507"/>
                </a:cubicBezTo>
                <a:cubicBezTo>
                  <a:pt x="997" y="2515"/>
                  <a:pt x="996" y="2525"/>
                  <a:pt x="1002" y="2531"/>
                </a:cubicBezTo>
                <a:cubicBezTo>
                  <a:pt x="1008" y="2537"/>
                  <a:pt x="1017" y="2536"/>
                  <a:pt x="1025" y="2538"/>
                </a:cubicBezTo>
                <a:cubicBezTo>
                  <a:pt x="1030" y="2546"/>
                  <a:pt x="1033" y="2557"/>
                  <a:pt x="1041" y="2562"/>
                </a:cubicBezTo>
                <a:cubicBezTo>
                  <a:pt x="1050" y="2568"/>
                  <a:pt x="1066" y="2562"/>
                  <a:pt x="1073" y="2570"/>
                </a:cubicBezTo>
                <a:cubicBezTo>
                  <a:pt x="1082" y="2580"/>
                  <a:pt x="1078" y="2596"/>
                  <a:pt x="1081" y="2609"/>
                </a:cubicBezTo>
                <a:cubicBezTo>
                  <a:pt x="1090" y="2644"/>
                  <a:pt x="1094" y="2663"/>
                  <a:pt x="1120" y="2688"/>
                </a:cubicBezTo>
                <a:cubicBezTo>
                  <a:pt x="1138" y="2741"/>
                  <a:pt x="1114" y="2679"/>
                  <a:pt x="1152" y="2744"/>
                </a:cubicBezTo>
                <a:cubicBezTo>
                  <a:pt x="1176" y="2785"/>
                  <a:pt x="1183" y="2799"/>
                  <a:pt x="1231" y="2815"/>
                </a:cubicBezTo>
                <a:cubicBezTo>
                  <a:pt x="1300" y="2920"/>
                  <a:pt x="1255" y="2833"/>
                  <a:pt x="1270" y="3059"/>
                </a:cubicBezTo>
                <a:cubicBezTo>
                  <a:pt x="1272" y="3090"/>
                  <a:pt x="1279" y="3104"/>
                  <a:pt x="1294" y="3130"/>
                </a:cubicBezTo>
                <a:cubicBezTo>
                  <a:pt x="1304" y="3146"/>
                  <a:pt x="1325" y="3178"/>
                  <a:pt x="1325" y="3178"/>
                </a:cubicBezTo>
                <a:cubicBezTo>
                  <a:pt x="1318" y="3149"/>
                  <a:pt x="1303" y="3108"/>
                  <a:pt x="1286" y="3083"/>
                </a:cubicBezTo>
                <a:cubicBezTo>
                  <a:pt x="1278" y="3071"/>
                  <a:pt x="1263" y="3063"/>
                  <a:pt x="1254" y="3051"/>
                </a:cubicBezTo>
                <a:cubicBezTo>
                  <a:pt x="1236" y="3028"/>
                  <a:pt x="1229" y="2996"/>
                  <a:pt x="1215" y="2972"/>
                </a:cubicBezTo>
                <a:cubicBezTo>
                  <a:pt x="1187" y="2925"/>
                  <a:pt x="1145" y="2854"/>
                  <a:pt x="1096" y="2823"/>
                </a:cubicBezTo>
                <a:cubicBezTo>
                  <a:pt x="1074" y="2787"/>
                  <a:pt x="1047" y="2756"/>
                  <a:pt x="1025" y="2720"/>
                </a:cubicBezTo>
                <a:cubicBezTo>
                  <a:pt x="969" y="2627"/>
                  <a:pt x="954" y="2564"/>
                  <a:pt x="860" y="2499"/>
                </a:cubicBezTo>
                <a:cubicBezTo>
                  <a:pt x="842" y="2429"/>
                  <a:pt x="867" y="2509"/>
                  <a:pt x="812" y="2412"/>
                </a:cubicBezTo>
                <a:cubicBezTo>
                  <a:pt x="764" y="2328"/>
                  <a:pt x="700" y="2245"/>
                  <a:pt x="631" y="2176"/>
                </a:cubicBezTo>
                <a:cubicBezTo>
                  <a:pt x="622" y="2167"/>
                  <a:pt x="608" y="2162"/>
                  <a:pt x="599" y="2152"/>
                </a:cubicBezTo>
                <a:cubicBezTo>
                  <a:pt x="578" y="2129"/>
                  <a:pt x="535" y="2057"/>
                  <a:pt x="520" y="2033"/>
                </a:cubicBezTo>
                <a:cubicBezTo>
                  <a:pt x="498" y="1960"/>
                  <a:pt x="503" y="1921"/>
                  <a:pt x="434" y="1876"/>
                </a:cubicBezTo>
                <a:cubicBezTo>
                  <a:pt x="419" y="1830"/>
                  <a:pt x="430" y="1860"/>
                  <a:pt x="394" y="1789"/>
                </a:cubicBezTo>
                <a:cubicBezTo>
                  <a:pt x="389" y="1779"/>
                  <a:pt x="372" y="1780"/>
                  <a:pt x="363" y="1773"/>
                </a:cubicBezTo>
                <a:cubicBezTo>
                  <a:pt x="339" y="1755"/>
                  <a:pt x="317" y="1735"/>
                  <a:pt x="292" y="1718"/>
                </a:cubicBezTo>
                <a:cubicBezTo>
                  <a:pt x="272" y="1689"/>
                  <a:pt x="249" y="1676"/>
                  <a:pt x="221" y="1655"/>
                </a:cubicBezTo>
                <a:cubicBezTo>
                  <a:pt x="210" y="1687"/>
                  <a:pt x="211" y="1669"/>
                  <a:pt x="221" y="1702"/>
                </a:cubicBezTo>
                <a:cubicBezTo>
                  <a:pt x="223" y="1710"/>
                  <a:pt x="228" y="1726"/>
                  <a:pt x="228" y="1726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4560" y="4565520"/>
            <a:ext cx="1625760" cy="1652760"/>
          </a:xfrm>
          <a:custGeom>
            <a:avLst/>
            <a:gdLst/>
            <a:ahLst/>
            <a:rect l="l" t="t" r="r" b="b"/>
            <a:pathLst>
              <a:path w="1024" h="1041">
                <a:moveTo>
                  <a:pt x="79" y="446"/>
                </a:moveTo>
                <a:cubicBezTo>
                  <a:pt x="110" y="457"/>
                  <a:pt x="143" y="466"/>
                  <a:pt x="174" y="477"/>
                </a:cubicBezTo>
                <a:cubicBezTo>
                  <a:pt x="215" y="492"/>
                  <a:pt x="250" y="514"/>
                  <a:pt x="292" y="525"/>
                </a:cubicBezTo>
                <a:cubicBezTo>
                  <a:pt x="310" y="537"/>
                  <a:pt x="330" y="544"/>
                  <a:pt x="347" y="556"/>
                </a:cubicBezTo>
                <a:cubicBezTo>
                  <a:pt x="383" y="582"/>
                  <a:pt x="387" y="592"/>
                  <a:pt x="434" y="604"/>
                </a:cubicBezTo>
                <a:cubicBezTo>
                  <a:pt x="445" y="637"/>
                  <a:pt x="480" y="664"/>
                  <a:pt x="513" y="675"/>
                </a:cubicBezTo>
                <a:cubicBezTo>
                  <a:pt x="537" y="744"/>
                  <a:pt x="501" y="647"/>
                  <a:pt x="537" y="722"/>
                </a:cubicBezTo>
                <a:cubicBezTo>
                  <a:pt x="559" y="768"/>
                  <a:pt x="561" y="819"/>
                  <a:pt x="584" y="864"/>
                </a:cubicBezTo>
                <a:cubicBezTo>
                  <a:pt x="589" y="913"/>
                  <a:pt x="608" y="980"/>
                  <a:pt x="608" y="1030"/>
                </a:cubicBezTo>
                <a:cubicBezTo>
                  <a:pt x="608" y="1041"/>
                  <a:pt x="603" y="1009"/>
                  <a:pt x="600" y="998"/>
                </a:cubicBezTo>
                <a:cubicBezTo>
                  <a:pt x="591" y="967"/>
                  <a:pt x="596" y="978"/>
                  <a:pt x="568" y="959"/>
                </a:cubicBezTo>
                <a:cubicBezTo>
                  <a:pt x="542" y="880"/>
                  <a:pt x="478" y="802"/>
                  <a:pt x="395" y="785"/>
                </a:cubicBezTo>
                <a:cubicBezTo>
                  <a:pt x="353" y="757"/>
                  <a:pt x="373" y="778"/>
                  <a:pt x="355" y="706"/>
                </a:cubicBezTo>
                <a:cubicBezTo>
                  <a:pt x="353" y="697"/>
                  <a:pt x="339" y="695"/>
                  <a:pt x="331" y="690"/>
                </a:cubicBezTo>
                <a:cubicBezTo>
                  <a:pt x="310" y="679"/>
                  <a:pt x="268" y="659"/>
                  <a:pt x="268" y="659"/>
                </a:cubicBezTo>
                <a:cubicBezTo>
                  <a:pt x="227" y="616"/>
                  <a:pt x="167" y="597"/>
                  <a:pt x="126" y="556"/>
                </a:cubicBezTo>
                <a:cubicBezTo>
                  <a:pt x="118" y="548"/>
                  <a:pt x="113" y="538"/>
                  <a:pt x="103" y="533"/>
                </a:cubicBezTo>
                <a:cubicBezTo>
                  <a:pt x="88" y="525"/>
                  <a:pt x="55" y="517"/>
                  <a:pt x="55" y="517"/>
                </a:cubicBezTo>
                <a:cubicBezTo>
                  <a:pt x="17" y="491"/>
                  <a:pt x="12" y="509"/>
                  <a:pt x="0" y="462"/>
                </a:cubicBezTo>
                <a:cubicBezTo>
                  <a:pt x="15" y="447"/>
                  <a:pt x="34" y="438"/>
                  <a:pt x="47" y="422"/>
                </a:cubicBezTo>
                <a:cubicBezTo>
                  <a:pt x="90" y="368"/>
                  <a:pt x="84" y="280"/>
                  <a:pt x="118" y="217"/>
                </a:cubicBezTo>
                <a:cubicBezTo>
                  <a:pt x="129" y="196"/>
                  <a:pt x="139" y="175"/>
                  <a:pt x="150" y="154"/>
                </a:cubicBezTo>
                <a:cubicBezTo>
                  <a:pt x="163" y="130"/>
                  <a:pt x="189" y="83"/>
                  <a:pt x="189" y="83"/>
                </a:cubicBezTo>
                <a:cubicBezTo>
                  <a:pt x="179" y="4"/>
                  <a:pt x="174" y="0"/>
                  <a:pt x="197" y="67"/>
                </a:cubicBezTo>
                <a:cubicBezTo>
                  <a:pt x="201" y="78"/>
                  <a:pt x="208" y="88"/>
                  <a:pt x="213" y="99"/>
                </a:cubicBezTo>
                <a:cubicBezTo>
                  <a:pt x="225" y="191"/>
                  <a:pt x="244" y="262"/>
                  <a:pt x="300" y="335"/>
                </a:cubicBezTo>
                <a:cubicBezTo>
                  <a:pt x="305" y="356"/>
                  <a:pt x="311" y="378"/>
                  <a:pt x="316" y="399"/>
                </a:cubicBezTo>
                <a:cubicBezTo>
                  <a:pt x="320" y="415"/>
                  <a:pt x="331" y="446"/>
                  <a:pt x="331" y="446"/>
                </a:cubicBezTo>
                <a:cubicBezTo>
                  <a:pt x="326" y="559"/>
                  <a:pt x="323" y="672"/>
                  <a:pt x="316" y="785"/>
                </a:cubicBezTo>
                <a:cubicBezTo>
                  <a:pt x="315" y="799"/>
                  <a:pt x="314" y="837"/>
                  <a:pt x="308" y="825"/>
                </a:cubicBezTo>
                <a:cubicBezTo>
                  <a:pt x="271" y="753"/>
                  <a:pt x="316" y="652"/>
                  <a:pt x="268" y="580"/>
                </a:cubicBezTo>
                <a:cubicBezTo>
                  <a:pt x="265" y="569"/>
                  <a:pt x="264" y="558"/>
                  <a:pt x="260" y="548"/>
                </a:cubicBezTo>
                <a:cubicBezTo>
                  <a:pt x="254" y="534"/>
                  <a:pt x="241" y="523"/>
                  <a:pt x="237" y="509"/>
                </a:cubicBezTo>
                <a:cubicBezTo>
                  <a:pt x="231" y="489"/>
                  <a:pt x="234" y="467"/>
                  <a:pt x="229" y="446"/>
                </a:cubicBezTo>
                <a:cubicBezTo>
                  <a:pt x="214" y="386"/>
                  <a:pt x="175" y="332"/>
                  <a:pt x="158" y="272"/>
                </a:cubicBezTo>
                <a:cubicBezTo>
                  <a:pt x="146" y="232"/>
                  <a:pt x="141" y="196"/>
                  <a:pt x="118" y="162"/>
                </a:cubicBezTo>
                <a:cubicBezTo>
                  <a:pt x="107" y="146"/>
                  <a:pt x="81" y="96"/>
                  <a:pt x="87" y="114"/>
                </a:cubicBezTo>
                <a:cubicBezTo>
                  <a:pt x="101" y="155"/>
                  <a:pt x="85" y="125"/>
                  <a:pt x="118" y="154"/>
                </a:cubicBezTo>
                <a:cubicBezTo>
                  <a:pt x="137" y="171"/>
                  <a:pt x="174" y="209"/>
                  <a:pt x="174" y="209"/>
                </a:cubicBezTo>
                <a:cubicBezTo>
                  <a:pt x="199" y="321"/>
                  <a:pt x="200" y="396"/>
                  <a:pt x="323" y="438"/>
                </a:cubicBezTo>
                <a:cubicBezTo>
                  <a:pt x="350" y="478"/>
                  <a:pt x="373" y="521"/>
                  <a:pt x="395" y="564"/>
                </a:cubicBezTo>
                <a:cubicBezTo>
                  <a:pt x="401" y="741"/>
                  <a:pt x="390" y="732"/>
                  <a:pt x="418" y="840"/>
                </a:cubicBezTo>
                <a:cubicBezTo>
                  <a:pt x="418" y="842"/>
                  <a:pt x="416" y="973"/>
                  <a:pt x="395" y="904"/>
                </a:cubicBezTo>
                <a:cubicBezTo>
                  <a:pt x="369" y="714"/>
                  <a:pt x="390" y="785"/>
                  <a:pt x="355" y="683"/>
                </a:cubicBezTo>
                <a:cubicBezTo>
                  <a:pt x="347" y="630"/>
                  <a:pt x="350" y="568"/>
                  <a:pt x="331" y="517"/>
                </a:cubicBezTo>
                <a:cubicBezTo>
                  <a:pt x="328" y="508"/>
                  <a:pt x="320" y="502"/>
                  <a:pt x="316" y="493"/>
                </a:cubicBezTo>
                <a:cubicBezTo>
                  <a:pt x="309" y="478"/>
                  <a:pt x="305" y="462"/>
                  <a:pt x="300" y="446"/>
                </a:cubicBezTo>
                <a:cubicBezTo>
                  <a:pt x="297" y="438"/>
                  <a:pt x="292" y="422"/>
                  <a:pt x="292" y="422"/>
                </a:cubicBezTo>
                <a:cubicBezTo>
                  <a:pt x="336" y="407"/>
                  <a:pt x="300" y="411"/>
                  <a:pt x="339" y="446"/>
                </a:cubicBezTo>
                <a:cubicBezTo>
                  <a:pt x="353" y="459"/>
                  <a:pt x="370" y="469"/>
                  <a:pt x="387" y="477"/>
                </a:cubicBezTo>
                <a:cubicBezTo>
                  <a:pt x="402" y="484"/>
                  <a:pt x="418" y="488"/>
                  <a:pt x="434" y="493"/>
                </a:cubicBezTo>
                <a:cubicBezTo>
                  <a:pt x="474" y="507"/>
                  <a:pt x="490" y="543"/>
                  <a:pt x="529" y="556"/>
                </a:cubicBezTo>
                <a:cubicBezTo>
                  <a:pt x="561" y="581"/>
                  <a:pt x="577" y="586"/>
                  <a:pt x="615" y="596"/>
                </a:cubicBezTo>
                <a:cubicBezTo>
                  <a:pt x="626" y="604"/>
                  <a:pt x="635" y="613"/>
                  <a:pt x="647" y="619"/>
                </a:cubicBezTo>
                <a:cubicBezTo>
                  <a:pt x="657" y="624"/>
                  <a:pt x="670" y="621"/>
                  <a:pt x="679" y="627"/>
                </a:cubicBezTo>
                <a:cubicBezTo>
                  <a:pt x="687" y="632"/>
                  <a:pt x="686" y="645"/>
                  <a:pt x="694" y="651"/>
                </a:cubicBezTo>
                <a:cubicBezTo>
                  <a:pt x="713" y="665"/>
                  <a:pt x="737" y="671"/>
                  <a:pt x="757" y="683"/>
                </a:cubicBezTo>
                <a:cubicBezTo>
                  <a:pt x="787" y="702"/>
                  <a:pt x="810" y="726"/>
                  <a:pt x="844" y="738"/>
                </a:cubicBezTo>
                <a:cubicBezTo>
                  <a:pt x="876" y="769"/>
                  <a:pt x="907" y="801"/>
                  <a:pt x="939" y="832"/>
                </a:cubicBezTo>
                <a:cubicBezTo>
                  <a:pt x="979" y="871"/>
                  <a:pt x="958" y="845"/>
                  <a:pt x="994" y="864"/>
                </a:cubicBezTo>
                <a:cubicBezTo>
                  <a:pt x="1003" y="868"/>
                  <a:pt x="1024" y="887"/>
                  <a:pt x="1018" y="880"/>
                </a:cubicBezTo>
                <a:cubicBezTo>
                  <a:pt x="999" y="857"/>
                  <a:pt x="976" y="838"/>
                  <a:pt x="955" y="817"/>
                </a:cubicBezTo>
                <a:cubicBezTo>
                  <a:pt x="947" y="809"/>
                  <a:pt x="931" y="793"/>
                  <a:pt x="931" y="793"/>
                </a:cubicBezTo>
                <a:cubicBezTo>
                  <a:pt x="906" y="717"/>
                  <a:pt x="750" y="628"/>
                  <a:pt x="679" y="604"/>
                </a:cubicBezTo>
                <a:cubicBezTo>
                  <a:pt x="593" y="575"/>
                  <a:pt x="503" y="557"/>
                  <a:pt x="418" y="525"/>
                </a:cubicBezTo>
                <a:cubicBezTo>
                  <a:pt x="338" y="495"/>
                  <a:pt x="430" y="523"/>
                  <a:pt x="363" y="493"/>
                </a:cubicBezTo>
                <a:cubicBezTo>
                  <a:pt x="288" y="459"/>
                  <a:pt x="203" y="452"/>
                  <a:pt x="134" y="406"/>
                </a:cubicBezTo>
                <a:cubicBezTo>
                  <a:pt x="125" y="432"/>
                  <a:pt x="129" y="459"/>
                  <a:pt x="142" y="485"/>
                </a:cubicBezTo>
                <a:cubicBezTo>
                  <a:pt x="151" y="502"/>
                  <a:pt x="174" y="533"/>
                  <a:pt x="174" y="533"/>
                </a:cubicBezTo>
                <a:cubicBezTo>
                  <a:pt x="184" y="566"/>
                  <a:pt x="201" y="595"/>
                  <a:pt x="213" y="627"/>
                </a:cubicBezTo>
                <a:cubicBezTo>
                  <a:pt x="216" y="635"/>
                  <a:pt x="215" y="645"/>
                  <a:pt x="221" y="651"/>
                </a:cubicBezTo>
                <a:cubicBezTo>
                  <a:pt x="229" y="659"/>
                  <a:pt x="242" y="662"/>
                  <a:pt x="252" y="667"/>
                </a:cubicBezTo>
                <a:cubicBezTo>
                  <a:pt x="271" y="723"/>
                  <a:pt x="259" y="700"/>
                  <a:pt x="284" y="738"/>
                </a:cubicBezTo>
                <a:cubicBezTo>
                  <a:pt x="292" y="777"/>
                  <a:pt x="306" y="797"/>
                  <a:pt x="323" y="832"/>
                </a:cubicBezTo>
                <a:cubicBezTo>
                  <a:pt x="333" y="932"/>
                  <a:pt x="331" y="885"/>
                  <a:pt x="331" y="975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155600">
            <a:off x="151920" y="1585440"/>
            <a:ext cx="1955880" cy="2718000"/>
          </a:xfrm>
          <a:prstGeom prst="ellipse">
            <a:avLst/>
          </a:prstGeom>
          <a:noFill/>
          <a:ln w="381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5"/>
          <p:cNvSpPr/>
          <p:nvPr/>
        </p:nvSpPr>
        <p:spPr>
          <a:xfrm>
            <a:off x="4648320" y="2895480"/>
            <a:ext cx="426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Treatment bed is rarely used during quick tri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Design does not allow waiting room obse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Equipment is placed too high for nur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5"/>
          <p:cNvSpPr/>
          <p:nvPr/>
        </p:nvSpPr>
        <p:spPr>
          <a:xfrm>
            <a:off x="4191120" y="56386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cc00"/>
                </a:solidFill>
                <a:latin typeface="Arial"/>
              </a:rPr>
              <a:t>Nurse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Patient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537160" y="63360"/>
            <a:ext cx="3390840" cy="25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83920" y="177804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Design a functional triage spac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cuity adaptabl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aximize flow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llow for treatment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eet regulatory requirements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ur 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81080" y="1440000"/>
            <a:ext cx="5524560" cy="5126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Quick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Easy access to equi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Space used efficient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Waiting room visi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Open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01520" y="1776240"/>
            <a:ext cx="457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Extended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uity adapt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llows 10 min EK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cess to 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ble to treat pati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8947" b="0"/>
          <a:stretch/>
        </p:blipFill>
        <p:spPr>
          <a:xfrm>
            <a:off x="152280" y="1523880"/>
            <a:ext cx="452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74520" y="6172200"/>
            <a:ext cx="20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990720" y="2487600"/>
            <a:ext cx="8153280" cy="3513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8920" y="88920"/>
            <a:ext cx="3886200" cy="360684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876920" y="495360"/>
            <a:ext cx="37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75f55"/>
                </a:solidFill>
                <a:latin typeface="Tw Cen MT"/>
              </a:rPr>
              <a:t>Modeling &amp; Test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54080" y="609480"/>
            <a:ext cx="1231920" cy="2971800"/>
          </a:xfrm>
          <a:custGeom>
            <a:avLst/>
            <a:gdLst/>
            <a:ahLst/>
            <a:rect l="l" t="t" r="r" b="b"/>
            <a:pathLst>
              <a:path w="776" h="1872">
                <a:moveTo>
                  <a:pt x="536" y="1872"/>
                </a:moveTo>
                <a:cubicBezTo>
                  <a:pt x="276" y="1788"/>
                  <a:pt x="16" y="1704"/>
                  <a:pt x="8" y="1584"/>
                </a:cubicBezTo>
                <a:cubicBezTo>
                  <a:pt x="0" y="1464"/>
                  <a:pt x="360" y="1416"/>
                  <a:pt x="488" y="1152"/>
                </a:cubicBezTo>
                <a:cubicBezTo>
                  <a:pt x="616" y="888"/>
                  <a:pt x="728" y="192"/>
                  <a:pt x="776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70000" y="685800"/>
            <a:ext cx="1257480" cy="2895480"/>
          </a:xfrm>
          <a:custGeom>
            <a:avLst/>
            <a:gdLst/>
            <a:ahLst/>
            <a:rect l="l" t="t" r="r" b="b"/>
            <a:pathLst>
              <a:path w="792" h="1824">
                <a:moveTo>
                  <a:pt x="88" y="1824"/>
                </a:moveTo>
                <a:cubicBezTo>
                  <a:pt x="128" y="1732"/>
                  <a:pt x="168" y="1640"/>
                  <a:pt x="280" y="1584"/>
                </a:cubicBezTo>
                <a:cubicBezTo>
                  <a:pt x="392" y="1528"/>
                  <a:pt x="728" y="1512"/>
                  <a:pt x="760" y="1488"/>
                </a:cubicBezTo>
                <a:cubicBezTo>
                  <a:pt x="792" y="1464"/>
                  <a:pt x="592" y="1528"/>
                  <a:pt x="472" y="1440"/>
                </a:cubicBezTo>
                <a:cubicBezTo>
                  <a:pt x="352" y="1352"/>
                  <a:pt x="80" y="1200"/>
                  <a:pt x="40" y="960"/>
                </a:cubicBezTo>
                <a:cubicBezTo>
                  <a:pt x="0" y="720"/>
                  <a:pt x="200" y="160"/>
                  <a:pt x="23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00" y="457200"/>
            <a:ext cx="1765080" cy="3162240"/>
          </a:xfrm>
          <a:custGeom>
            <a:avLst/>
            <a:gdLst/>
            <a:ahLst/>
            <a:rect l="l" t="t" r="r" b="b"/>
            <a:pathLst>
              <a:path w="1112" h="1992">
                <a:moveTo>
                  <a:pt x="920" y="1920"/>
                </a:moveTo>
                <a:cubicBezTo>
                  <a:pt x="944" y="1956"/>
                  <a:pt x="968" y="1992"/>
                  <a:pt x="920" y="1968"/>
                </a:cubicBezTo>
                <a:cubicBezTo>
                  <a:pt x="872" y="1944"/>
                  <a:pt x="744" y="1816"/>
                  <a:pt x="632" y="1776"/>
                </a:cubicBezTo>
                <a:cubicBezTo>
                  <a:pt x="520" y="1736"/>
                  <a:pt x="280" y="1752"/>
                  <a:pt x="248" y="1728"/>
                </a:cubicBezTo>
                <a:cubicBezTo>
                  <a:pt x="216" y="1704"/>
                  <a:pt x="336" y="1712"/>
                  <a:pt x="440" y="1632"/>
                </a:cubicBezTo>
                <a:cubicBezTo>
                  <a:pt x="544" y="1552"/>
                  <a:pt x="808" y="1400"/>
                  <a:pt x="872" y="1248"/>
                </a:cubicBezTo>
                <a:cubicBezTo>
                  <a:pt x="936" y="1096"/>
                  <a:pt x="880" y="832"/>
                  <a:pt x="824" y="720"/>
                </a:cubicBezTo>
                <a:cubicBezTo>
                  <a:pt x="768" y="608"/>
                  <a:pt x="624" y="608"/>
                  <a:pt x="536" y="576"/>
                </a:cubicBezTo>
                <a:cubicBezTo>
                  <a:pt x="448" y="544"/>
                  <a:pt x="376" y="576"/>
                  <a:pt x="296" y="528"/>
                </a:cubicBezTo>
                <a:cubicBezTo>
                  <a:pt x="216" y="480"/>
                  <a:pt x="104" y="352"/>
                  <a:pt x="56" y="288"/>
                </a:cubicBezTo>
                <a:cubicBezTo>
                  <a:pt x="8" y="224"/>
                  <a:pt x="0" y="136"/>
                  <a:pt x="8" y="144"/>
                </a:cubicBezTo>
                <a:cubicBezTo>
                  <a:pt x="16" y="152"/>
                  <a:pt x="64" y="272"/>
                  <a:pt x="104" y="336"/>
                </a:cubicBezTo>
                <a:cubicBezTo>
                  <a:pt x="144" y="400"/>
                  <a:pt x="168" y="488"/>
                  <a:pt x="248" y="528"/>
                </a:cubicBezTo>
                <a:cubicBezTo>
                  <a:pt x="328" y="568"/>
                  <a:pt x="472" y="568"/>
                  <a:pt x="584" y="576"/>
                </a:cubicBezTo>
                <a:cubicBezTo>
                  <a:pt x="696" y="584"/>
                  <a:pt x="840" y="640"/>
                  <a:pt x="920" y="576"/>
                </a:cubicBezTo>
                <a:cubicBezTo>
                  <a:pt x="1000" y="512"/>
                  <a:pt x="1032" y="288"/>
                  <a:pt x="1064" y="192"/>
                </a:cubicBezTo>
                <a:cubicBezTo>
                  <a:pt x="1096" y="96"/>
                  <a:pt x="1104" y="48"/>
                  <a:pt x="111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80880"/>
            <a:ext cx="1828800" cy="3340080"/>
          </a:xfrm>
          <a:custGeom>
            <a:avLst/>
            <a:gdLst/>
            <a:ahLst/>
            <a:rect l="l" t="t" r="r" b="b"/>
            <a:pathLst>
              <a:path w="1152" h="2104">
                <a:moveTo>
                  <a:pt x="912" y="2016"/>
                </a:moveTo>
                <a:cubicBezTo>
                  <a:pt x="940" y="2060"/>
                  <a:pt x="968" y="2104"/>
                  <a:pt x="960" y="1968"/>
                </a:cubicBezTo>
                <a:cubicBezTo>
                  <a:pt x="952" y="1832"/>
                  <a:pt x="912" y="1424"/>
                  <a:pt x="864" y="1200"/>
                </a:cubicBezTo>
                <a:cubicBezTo>
                  <a:pt x="816" y="976"/>
                  <a:pt x="792" y="752"/>
                  <a:pt x="672" y="624"/>
                </a:cubicBezTo>
                <a:cubicBezTo>
                  <a:pt x="552" y="496"/>
                  <a:pt x="256" y="512"/>
                  <a:pt x="144" y="432"/>
                </a:cubicBezTo>
                <a:cubicBezTo>
                  <a:pt x="32" y="352"/>
                  <a:pt x="0" y="128"/>
                  <a:pt x="0" y="144"/>
                </a:cubicBezTo>
                <a:cubicBezTo>
                  <a:pt x="0" y="160"/>
                  <a:pt x="72" y="456"/>
                  <a:pt x="144" y="528"/>
                </a:cubicBezTo>
                <a:cubicBezTo>
                  <a:pt x="216" y="600"/>
                  <a:pt x="296" y="568"/>
                  <a:pt x="432" y="576"/>
                </a:cubicBezTo>
                <a:cubicBezTo>
                  <a:pt x="568" y="584"/>
                  <a:pt x="840" y="672"/>
                  <a:pt x="960" y="576"/>
                </a:cubicBezTo>
                <a:cubicBezTo>
                  <a:pt x="1080" y="480"/>
                  <a:pt x="1116" y="240"/>
                  <a:pt x="115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806560"/>
            <a:ext cx="1307880" cy="851040"/>
          </a:xfrm>
          <a:custGeom>
            <a:avLst/>
            <a:gdLst/>
            <a:ahLst/>
            <a:rect l="l" t="t" r="r" b="b"/>
            <a:pathLst>
              <a:path w="824" h="536">
                <a:moveTo>
                  <a:pt x="96" y="8"/>
                </a:moveTo>
                <a:cubicBezTo>
                  <a:pt x="256" y="4"/>
                  <a:pt x="416" y="0"/>
                  <a:pt x="528" y="56"/>
                </a:cubicBezTo>
                <a:cubicBezTo>
                  <a:pt x="640" y="112"/>
                  <a:pt x="720" y="264"/>
                  <a:pt x="768" y="344"/>
                </a:cubicBezTo>
                <a:cubicBezTo>
                  <a:pt x="816" y="424"/>
                  <a:pt x="824" y="536"/>
                  <a:pt x="816" y="536"/>
                </a:cubicBezTo>
                <a:cubicBezTo>
                  <a:pt x="808" y="536"/>
                  <a:pt x="760" y="408"/>
                  <a:pt x="720" y="344"/>
                </a:cubicBezTo>
                <a:cubicBezTo>
                  <a:pt x="680" y="280"/>
                  <a:pt x="648" y="200"/>
                  <a:pt x="576" y="152"/>
                </a:cubicBezTo>
                <a:cubicBezTo>
                  <a:pt x="504" y="104"/>
                  <a:pt x="376" y="72"/>
                  <a:pt x="288" y="56"/>
                </a:cubicBezTo>
                <a:cubicBezTo>
                  <a:pt x="200" y="40"/>
                  <a:pt x="96" y="64"/>
                  <a:pt x="48" y="56"/>
                </a:cubicBezTo>
                <a:cubicBezTo>
                  <a:pt x="0" y="48"/>
                  <a:pt x="0" y="28"/>
                  <a:pt x="0" y="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4280" y="812880"/>
            <a:ext cx="2882880" cy="2768400"/>
          </a:xfrm>
          <a:custGeom>
            <a:avLst/>
            <a:gdLst/>
            <a:ahLst/>
            <a:rect l="l" t="t" r="r" b="b"/>
            <a:pathLst>
              <a:path w="1816" h="1744">
                <a:moveTo>
                  <a:pt x="976" y="1744"/>
                </a:moveTo>
                <a:cubicBezTo>
                  <a:pt x="1032" y="1640"/>
                  <a:pt x="1088" y="1536"/>
                  <a:pt x="1216" y="1456"/>
                </a:cubicBezTo>
                <a:cubicBezTo>
                  <a:pt x="1344" y="1376"/>
                  <a:pt x="1672" y="1336"/>
                  <a:pt x="1744" y="1264"/>
                </a:cubicBezTo>
                <a:cubicBezTo>
                  <a:pt x="1816" y="1192"/>
                  <a:pt x="1696" y="1064"/>
                  <a:pt x="1648" y="1024"/>
                </a:cubicBezTo>
                <a:cubicBezTo>
                  <a:pt x="1600" y="984"/>
                  <a:pt x="1552" y="1040"/>
                  <a:pt x="1456" y="1024"/>
                </a:cubicBezTo>
                <a:cubicBezTo>
                  <a:pt x="1360" y="1008"/>
                  <a:pt x="1160" y="1000"/>
                  <a:pt x="1072" y="928"/>
                </a:cubicBezTo>
                <a:cubicBezTo>
                  <a:pt x="984" y="856"/>
                  <a:pt x="1032" y="712"/>
                  <a:pt x="928" y="592"/>
                </a:cubicBezTo>
                <a:cubicBezTo>
                  <a:pt x="824" y="472"/>
                  <a:pt x="592" y="224"/>
                  <a:pt x="448" y="208"/>
                </a:cubicBezTo>
                <a:cubicBezTo>
                  <a:pt x="304" y="192"/>
                  <a:pt x="128" y="488"/>
                  <a:pt x="64" y="496"/>
                </a:cubicBezTo>
                <a:cubicBezTo>
                  <a:pt x="0" y="504"/>
                  <a:pt x="56" y="336"/>
                  <a:pt x="64" y="256"/>
                </a:cubicBezTo>
                <a:cubicBezTo>
                  <a:pt x="72" y="176"/>
                  <a:pt x="104" y="0"/>
                  <a:pt x="112" y="16"/>
                </a:cubicBezTo>
                <a:cubicBezTo>
                  <a:pt x="120" y="32"/>
                  <a:pt x="48" y="296"/>
                  <a:pt x="112" y="352"/>
                </a:cubicBezTo>
                <a:cubicBezTo>
                  <a:pt x="176" y="408"/>
                  <a:pt x="352" y="312"/>
                  <a:pt x="496" y="352"/>
                </a:cubicBezTo>
                <a:cubicBezTo>
                  <a:pt x="640" y="392"/>
                  <a:pt x="880" y="480"/>
                  <a:pt x="976" y="592"/>
                </a:cubicBezTo>
                <a:cubicBezTo>
                  <a:pt x="1072" y="704"/>
                  <a:pt x="952" y="928"/>
                  <a:pt x="1072" y="1024"/>
                </a:cubicBezTo>
                <a:cubicBezTo>
                  <a:pt x="1192" y="1120"/>
                  <a:pt x="1444" y="1144"/>
                  <a:pt x="1696" y="116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880" y="609480"/>
            <a:ext cx="1536840" cy="2971800"/>
          </a:xfrm>
          <a:custGeom>
            <a:avLst/>
            <a:gdLst/>
            <a:ahLst/>
            <a:rect l="l" t="t" r="r" b="b"/>
            <a:pathLst>
              <a:path w="968" h="1872">
                <a:moveTo>
                  <a:pt x="248" y="1392"/>
                </a:moveTo>
                <a:cubicBezTo>
                  <a:pt x="408" y="1384"/>
                  <a:pt x="568" y="1376"/>
                  <a:pt x="680" y="1296"/>
                </a:cubicBezTo>
                <a:cubicBezTo>
                  <a:pt x="792" y="1216"/>
                  <a:pt x="888" y="1032"/>
                  <a:pt x="920" y="912"/>
                </a:cubicBezTo>
                <a:cubicBezTo>
                  <a:pt x="952" y="792"/>
                  <a:pt x="968" y="664"/>
                  <a:pt x="872" y="576"/>
                </a:cubicBezTo>
                <a:cubicBezTo>
                  <a:pt x="776" y="488"/>
                  <a:pt x="472" y="400"/>
                  <a:pt x="344" y="384"/>
                </a:cubicBezTo>
                <a:cubicBezTo>
                  <a:pt x="216" y="368"/>
                  <a:pt x="80" y="488"/>
                  <a:pt x="104" y="480"/>
                </a:cubicBezTo>
                <a:cubicBezTo>
                  <a:pt x="128" y="472"/>
                  <a:pt x="424" y="400"/>
                  <a:pt x="488" y="336"/>
                </a:cubicBezTo>
                <a:cubicBezTo>
                  <a:pt x="552" y="272"/>
                  <a:pt x="464" y="152"/>
                  <a:pt x="488" y="96"/>
                </a:cubicBezTo>
                <a:cubicBezTo>
                  <a:pt x="512" y="40"/>
                  <a:pt x="616" y="0"/>
                  <a:pt x="632" y="0"/>
                </a:cubicBezTo>
                <a:cubicBezTo>
                  <a:pt x="648" y="0"/>
                  <a:pt x="584" y="56"/>
                  <a:pt x="584" y="96"/>
                </a:cubicBezTo>
                <a:cubicBezTo>
                  <a:pt x="584" y="136"/>
                  <a:pt x="672" y="176"/>
                  <a:pt x="632" y="240"/>
                </a:cubicBezTo>
                <a:cubicBezTo>
                  <a:pt x="592" y="304"/>
                  <a:pt x="432" y="496"/>
                  <a:pt x="344" y="480"/>
                </a:cubicBezTo>
                <a:cubicBezTo>
                  <a:pt x="256" y="464"/>
                  <a:pt x="136" y="176"/>
                  <a:pt x="104" y="144"/>
                </a:cubicBezTo>
                <a:cubicBezTo>
                  <a:pt x="72" y="112"/>
                  <a:pt x="120" y="232"/>
                  <a:pt x="152" y="288"/>
                </a:cubicBezTo>
                <a:cubicBezTo>
                  <a:pt x="184" y="344"/>
                  <a:pt x="216" y="448"/>
                  <a:pt x="296" y="480"/>
                </a:cubicBezTo>
                <a:cubicBezTo>
                  <a:pt x="376" y="512"/>
                  <a:pt x="528" y="456"/>
                  <a:pt x="632" y="480"/>
                </a:cubicBezTo>
                <a:cubicBezTo>
                  <a:pt x="736" y="504"/>
                  <a:pt x="872" y="536"/>
                  <a:pt x="920" y="624"/>
                </a:cubicBezTo>
                <a:cubicBezTo>
                  <a:pt x="968" y="712"/>
                  <a:pt x="944" y="896"/>
                  <a:pt x="920" y="1008"/>
                </a:cubicBezTo>
                <a:cubicBezTo>
                  <a:pt x="896" y="1120"/>
                  <a:pt x="896" y="1240"/>
                  <a:pt x="776" y="1296"/>
                </a:cubicBezTo>
                <a:cubicBezTo>
                  <a:pt x="656" y="1352"/>
                  <a:pt x="328" y="1336"/>
                  <a:pt x="200" y="1344"/>
                </a:cubicBezTo>
                <a:cubicBezTo>
                  <a:pt x="72" y="1352"/>
                  <a:pt x="16" y="1376"/>
                  <a:pt x="8" y="1344"/>
                </a:cubicBezTo>
                <a:cubicBezTo>
                  <a:pt x="0" y="1312"/>
                  <a:pt x="136" y="1168"/>
                  <a:pt x="152" y="1152"/>
                </a:cubicBezTo>
                <a:cubicBezTo>
                  <a:pt x="168" y="1136"/>
                  <a:pt x="96" y="1208"/>
                  <a:pt x="104" y="1248"/>
                </a:cubicBezTo>
                <a:cubicBezTo>
                  <a:pt x="112" y="1288"/>
                  <a:pt x="112" y="1360"/>
                  <a:pt x="200" y="1392"/>
                </a:cubicBezTo>
                <a:cubicBezTo>
                  <a:pt x="288" y="1424"/>
                  <a:pt x="504" y="1360"/>
                  <a:pt x="632" y="1440"/>
                </a:cubicBezTo>
                <a:cubicBezTo>
                  <a:pt x="760" y="1520"/>
                  <a:pt x="864" y="1696"/>
                  <a:pt x="968" y="1872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9240" y="533520"/>
            <a:ext cx="1193760" cy="3047760"/>
          </a:xfrm>
          <a:custGeom>
            <a:avLst/>
            <a:gdLst/>
            <a:ahLst/>
            <a:rect l="l" t="t" r="r" b="b"/>
            <a:pathLst>
              <a:path w="752" h="1920">
                <a:moveTo>
                  <a:pt x="120" y="1920"/>
                </a:moveTo>
                <a:cubicBezTo>
                  <a:pt x="100" y="1916"/>
                  <a:pt x="80" y="1912"/>
                  <a:pt x="120" y="1872"/>
                </a:cubicBezTo>
                <a:cubicBezTo>
                  <a:pt x="160" y="1832"/>
                  <a:pt x="280" y="1720"/>
                  <a:pt x="360" y="1680"/>
                </a:cubicBezTo>
                <a:cubicBezTo>
                  <a:pt x="440" y="1640"/>
                  <a:pt x="536" y="1632"/>
                  <a:pt x="600" y="1632"/>
                </a:cubicBezTo>
                <a:cubicBezTo>
                  <a:pt x="664" y="1632"/>
                  <a:pt x="752" y="1688"/>
                  <a:pt x="744" y="1680"/>
                </a:cubicBezTo>
                <a:cubicBezTo>
                  <a:pt x="736" y="1672"/>
                  <a:pt x="640" y="1640"/>
                  <a:pt x="552" y="1584"/>
                </a:cubicBezTo>
                <a:cubicBezTo>
                  <a:pt x="464" y="1528"/>
                  <a:pt x="304" y="1424"/>
                  <a:pt x="216" y="1344"/>
                </a:cubicBezTo>
                <a:cubicBezTo>
                  <a:pt x="128" y="1264"/>
                  <a:pt x="48" y="1248"/>
                  <a:pt x="24" y="1104"/>
                </a:cubicBezTo>
                <a:cubicBezTo>
                  <a:pt x="0" y="960"/>
                  <a:pt x="48" y="664"/>
                  <a:pt x="72" y="480"/>
                </a:cubicBezTo>
                <a:cubicBezTo>
                  <a:pt x="96" y="296"/>
                  <a:pt x="132" y="148"/>
                  <a:pt x="168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241200"/>
            <a:ext cx="1815840" cy="3340080"/>
          </a:xfrm>
          <a:custGeom>
            <a:avLst/>
            <a:gdLst/>
            <a:ahLst/>
            <a:rect l="l" t="t" r="r" b="b"/>
            <a:pathLst>
              <a:path w="1144" h="2104">
                <a:moveTo>
                  <a:pt x="904" y="2104"/>
                </a:moveTo>
                <a:cubicBezTo>
                  <a:pt x="788" y="2028"/>
                  <a:pt x="672" y="1952"/>
                  <a:pt x="568" y="1912"/>
                </a:cubicBezTo>
                <a:cubicBezTo>
                  <a:pt x="464" y="1872"/>
                  <a:pt x="352" y="1880"/>
                  <a:pt x="280" y="1864"/>
                </a:cubicBezTo>
                <a:cubicBezTo>
                  <a:pt x="208" y="1848"/>
                  <a:pt x="176" y="1832"/>
                  <a:pt x="136" y="1816"/>
                </a:cubicBezTo>
                <a:cubicBezTo>
                  <a:pt x="96" y="1800"/>
                  <a:pt x="0" y="1784"/>
                  <a:pt x="40" y="1768"/>
                </a:cubicBezTo>
                <a:cubicBezTo>
                  <a:pt x="80" y="1752"/>
                  <a:pt x="256" y="1736"/>
                  <a:pt x="376" y="1720"/>
                </a:cubicBezTo>
                <a:cubicBezTo>
                  <a:pt x="496" y="1704"/>
                  <a:pt x="664" y="1768"/>
                  <a:pt x="760" y="1672"/>
                </a:cubicBezTo>
                <a:cubicBezTo>
                  <a:pt x="856" y="1576"/>
                  <a:pt x="904" y="1328"/>
                  <a:pt x="952" y="1144"/>
                </a:cubicBezTo>
                <a:cubicBezTo>
                  <a:pt x="1000" y="960"/>
                  <a:pt x="1024" y="744"/>
                  <a:pt x="1048" y="568"/>
                </a:cubicBezTo>
                <a:cubicBezTo>
                  <a:pt x="1072" y="392"/>
                  <a:pt x="1080" y="176"/>
                  <a:pt x="1096" y="88"/>
                </a:cubicBezTo>
                <a:cubicBezTo>
                  <a:pt x="1112" y="0"/>
                  <a:pt x="1128" y="20"/>
                  <a:pt x="1144" y="4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52280"/>
            <a:ext cx="1930320" cy="1231920"/>
          </a:xfrm>
          <a:custGeom>
            <a:avLst/>
            <a:gdLst/>
            <a:ahLst/>
            <a:rect l="l" t="t" r="r" b="b"/>
            <a:pathLst>
              <a:path w="1216" h="776">
                <a:moveTo>
                  <a:pt x="1104" y="0"/>
                </a:moveTo>
                <a:cubicBezTo>
                  <a:pt x="1112" y="96"/>
                  <a:pt x="1120" y="192"/>
                  <a:pt x="1104" y="288"/>
                </a:cubicBezTo>
                <a:cubicBezTo>
                  <a:pt x="1088" y="384"/>
                  <a:pt x="1080" y="496"/>
                  <a:pt x="1008" y="576"/>
                </a:cubicBezTo>
                <a:cubicBezTo>
                  <a:pt x="936" y="656"/>
                  <a:pt x="824" y="776"/>
                  <a:pt x="672" y="768"/>
                </a:cubicBezTo>
                <a:cubicBezTo>
                  <a:pt x="520" y="760"/>
                  <a:pt x="192" y="600"/>
                  <a:pt x="96" y="528"/>
                </a:cubicBezTo>
                <a:cubicBezTo>
                  <a:pt x="0" y="456"/>
                  <a:pt x="88" y="336"/>
                  <a:pt x="96" y="336"/>
                </a:cubicBezTo>
                <a:cubicBezTo>
                  <a:pt x="104" y="336"/>
                  <a:pt x="88" y="488"/>
                  <a:pt x="144" y="528"/>
                </a:cubicBezTo>
                <a:cubicBezTo>
                  <a:pt x="200" y="568"/>
                  <a:pt x="344" y="592"/>
                  <a:pt x="432" y="576"/>
                </a:cubicBezTo>
                <a:cubicBezTo>
                  <a:pt x="520" y="560"/>
                  <a:pt x="640" y="496"/>
                  <a:pt x="672" y="432"/>
                </a:cubicBezTo>
                <a:cubicBezTo>
                  <a:pt x="704" y="368"/>
                  <a:pt x="640" y="216"/>
                  <a:pt x="624" y="192"/>
                </a:cubicBezTo>
                <a:cubicBezTo>
                  <a:pt x="608" y="168"/>
                  <a:pt x="592" y="240"/>
                  <a:pt x="576" y="288"/>
                </a:cubicBezTo>
                <a:cubicBezTo>
                  <a:pt x="560" y="336"/>
                  <a:pt x="552" y="408"/>
                  <a:pt x="528" y="480"/>
                </a:cubicBezTo>
                <a:cubicBezTo>
                  <a:pt x="504" y="552"/>
                  <a:pt x="496" y="688"/>
                  <a:pt x="432" y="720"/>
                </a:cubicBezTo>
                <a:cubicBezTo>
                  <a:pt x="368" y="752"/>
                  <a:pt x="192" y="712"/>
                  <a:pt x="144" y="672"/>
                </a:cubicBezTo>
                <a:cubicBezTo>
                  <a:pt x="96" y="632"/>
                  <a:pt x="136" y="496"/>
                  <a:pt x="144" y="480"/>
                </a:cubicBezTo>
                <a:cubicBezTo>
                  <a:pt x="152" y="464"/>
                  <a:pt x="152" y="544"/>
                  <a:pt x="192" y="576"/>
                </a:cubicBezTo>
                <a:cubicBezTo>
                  <a:pt x="232" y="608"/>
                  <a:pt x="304" y="648"/>
                  <a:pt x="384" y="672"/>
                </a:cubicBezTo>
                <a:cubicBezTo>
                  <a:pt x="464" y="696"/>
                  <a:pt x="552" y="728"/>
                  <a:pt x="672" y="720"/>
                </a:cubicBezTo>
                <a:cubicBezTo>
                  <a:pt x="792" y="712"/>
                  <a:pt x="1016" y="704"/>
                  <a:pt x="1104" y="624"/>
                </a:cubicBezTo>
                <a:cubicBezTo>
                  <a:pt x="1192" y="544"/>
                  <a:pt x="1184" y="344"/>
                  <a:pt x="1200" y="240"/>
                </a:cubicBezTo>
                <a:cubicBezTo>
                  <a:pt x="1216" y="136"/>
                  <a:pt x="1208" y="68"/>
                  <a:pt x="1200" y="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6880" y="152280"/>
            <a:ext cx="1968480" cy="1524240"/>
          </a:xfrm>
          <a:custGeom>
            <a:avLst/>
            <a:gdLst/>
            <a:ahLst/>
            <a:rect l="l" t="t" r="r" b="b"/>
            <a:pathLst>
              <a:path w="1240" h="960">
                <a:moveTo>
                  <a:pt x="1112" y="0"/>
                </a:moveTo>
                <a:cubicBezTo>
                  <a:pt x="1128" y="196"/>
                  <a:pt x="1144" y="392"/>
                  <a:pt x="1112" y="528"/>
                </a:cubicBezTo>
                <a:cubicBezTo>
                  <a:pt x="1080" y="664"/>
                  <a:pt x="1024" y="776"/>
                  <a:pt x="920" y="816"/>
                </a:cubicBezTo>
                <a:cubicBezTo>
                  <a:pt x="816" y="856"/>
                  <a:pt x="624" y="800"/>
                  <a:pt x="488" y="768"/>
                </a:cubicBezTo>
                <a:cubicBezTo>
                  <a:pt x="352" y="736"/>
                  <a:pt x="176" y="688"/>
                  <a:pt x="104" y="624"/>
                </a:cubicBezTo>
                <a:cubicBezTo>
                  <a:pt x="32" y="560"/>
                  <a:pt x="40" y="392"/>
                  <a:pt x="56" y="384"/>
                </a:cubicBezTo>
                <a:cubicBezTo>
                  <a:pt x="72" y="376"/>
                  <a:pt x="112" y="568"/>
                  <a:pt x="200" y="576"/>
                </a:cubicBezTo>
                <a:cubicBezTo>
                  <a:pt x="288" y="584"/>
                  <a:pt x="520" y="488"/>
                  <a:pt x="584" y="432"/>
                </a:cubicBezTo>
                <a:cubicBezTo>
                  <a:pt x="648" y="376"/>
                  <a:pt x="592" y="224"/>
                  <a:pt x="584" y="240"/>
                </a:cubicBezTo>
                <a:cubicBezTo>
                  <a:pt x="576" y="256"/>
                  <a:pt x="600" y="464"/>
                  <a:pt x="536" y="528"/>
                </a:cubicBezTo>
                <a:cubicBezTo>
                  <a:pt x="472" y="592"/>
                  <a:pt x="264" y="648"/>
                  <a:pt x="200" y="624"/>
                </a:cubicBezTo>
                <a:cubicBezTo>
                  <a:pt x="136" y="600"/>
                  <a:pt x="184" y="416"/>
                  <a:pt x="152" y="384"/>
                </a:cubicBezTo>
                <a:cubicBezTo>
                  <a:pt x="120" y="352"/>
                  <a:pt x="8" y="368"/>
                  <a:pt x="8" y="432"/>
                </a:cubicBezTo>
                <a:cubicBezTo>
                  <a:pt x="8" y="496"/>
                  <a:pt x="152" y="680"/>
                  <a:pt x="152" y="768"/>
                </a:cubicBezTo>
                <a:cubicBezTo>
                  <a:pt x="152" y="856"/>
                  <a:pt x="0" y="960"/>
                  <a:pt x="8" y="960"/>
                </a:cubicBezTo>
                <a:cubicBezTo>
                  <a:pt x="16" y="960"/>
                  <a:pt x="136" y="800"/>
                  <a:pt x="200" y="768"/>
                </a:cubicBezTo>
                <a:cubicBezTo>
                  <a:pt x="264" y="736"/>
                  <a:pt x="304" y="760"/>
                  <a:pt x="392" y="768"/>
                </a:cubicBezTo>
                <a:cubicBezTo>
                  <a:pt x="480" y="776"/>
                  <a:pt x="600" y="856"/>
                  <a:pt x="728" y="816"/>
                </a:cubicBezTo>
                <a:cubicBezTo>
                  <a:pt x="856" y="776"/>
                  <a:pt x="1080" y="656"/>
                  <a:pt x="1160" y="528"/>
                </a:cubicBezTo>
                <a:cubicBezTo>
                  <a:pt x="1240" y="400"/>
                  <a:pt x="1224" y="224"/>
                  <a:pt x="1208" y="48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ay Ahe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60020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dd8047"/>
                </a:solidFill>
                <a:latin typeface="Arial"/>
                <a:ea typeface="Arial"/>
              </a:rPr>
              <a:t>Problem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94b6d2"/>
                </a:solidFill>
                <a:latin typeface="Arial"/>
                <a:ea typeface="Arial"/>
              </a:rPr>
              <a:t>Project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704404"/>
                </a:solidFill>
                <a:latin typeface="Arial"/>
                <a:ea typeface="Arial"/>
              </a:rPr>
              <a:t>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Project Refinement</a:t>
            </a:r>
            <a:r>
              <a:rPr b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8047"/>
                </a:solidFill>
                <a:latin typeface="Arial"/>
                <a:ea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b6d2"/>
                </a:solidFill>
                <a:latin typeface="Arial"/>
                <a:ea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20179200">
            <a:off x="4114440" y="3619080"/>
            <a:ext cx="53352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10-28T20:10:18Z</dcterms:modified>
  <cp:revision>616</cp:revision>
  <dc:subject/>
  <dc:title>Slide 1</dc:title>
</cp:coreProperties>
</file>